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65A-7752-4274-B183-6551F53E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63E-AA12-4C86-830B-8BAE59AE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49244-3D87-4142-A6CC-C9DC1D9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24E84-D0AF-41FC-B986-C050FBC7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EC912-00FC-4229-98E3-FD05C148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2E643-7584-4849-B6B3-5EE3EA81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801D3-2E47-4FCF-8067-36F3D28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0A341-E77F-4387-8C72-EE1D400B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CB29-A6E3-4ED0-BEBC-5B58211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F897F-4A0B-4050-B914-22482848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D7145-7E38-47FD-9166-66D05ED3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BE6B4-123B-424D-845D-140BF6E5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CF7-DDE7-4D3C-9BE0-6E5CC53D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6C97D-B24C-4A75-86C2-72DD1B8D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39FA3-82DE-4A41-BCF0-32AD52F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1833E-7F1C-49DE-802F-64B9A20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E0D8C-B0E5-434B-A9E8-878D7737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8C209-10EB-433B-A289-1908D8EC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002F3-DFB9-4243-B7BF-5DABFD8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5E4EB-5D38-4AC8-A9DE-A298FA1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61D1-8A01-4B15-AAF4-CD9CFA1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3E03F-C855-4DDF-BDE1-1EFB5512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2A734-A3F2-4128-A2EA-4C191943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F97-A52E-4BED-B7A6-694E0786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1487D-EBC5-4B32-9D94-41666617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82F5B-1B42-46A3-9C46-DEB619FE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63095-3C42-44D1-BC05-2800377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43AC6-3932-48D4-947F-BC0BE48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27A0E-29BE-4244-8884-95E9D3E9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18E82-6452-4F05-ABA5-2BD5C0DD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CA63E-2234-420B-9C38-3752B685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6D7DB-EB6C-4FD4-A7CA-A6D4BD1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D19D-5F3C-48E2-ABED-D6E19B78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95B78-2905-469F-8C1A-86CEAE0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DD9F-F802-440E-BE26-97CFC25A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1521B-CC91-4BC8-AD48-C10335C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AFC5D-AB02-4C91-8439-65B2C76A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60285-08D2-418E-A97A-728AF2CD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67EF7-B175-4728-AA0C-DF812002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C0A97-6E32-43BC-979C-73FE8D8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974B8-5BAF-4D62-B438-118ABE1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FEC32-ED01-443C-A053-437F9657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9E353-898F-48E3-B0E0-AC0492CC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4BEF2-C31D-42C4-8F9E-7FD53B3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A1CDE-AD31-4898-B248-1296E43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9FC9-91EC-499F-8557-CCB70BC6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915C2-6717-42C0-BC96-51EBF8E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02F1C-107E-4B6B-A733-E54DF2C2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4F0D-C9FF-4ED0-B5AD-9A48D730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49C6C-40E8-48E0-B8B9-896C310D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AD039-24A1-4D95-A91F-07AE6097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A0762-1226-47FB-B4EA-DE5E601C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D7608-B42C-4521-B3F7-1ACAFAF6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356ED-D256-45F9-B2A3-AA7C72E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9B1A7-6059-4459-8784-24E3D51C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D74CA-679A-449E-81E5-2F49A01D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31A7-1FFE-435D-9037-4CA4F678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B4E01-45F8-4954-B17F-FD16DA5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CE601-AA98-4197-9572-C4F2225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AAAEA-661A-423E-A3E4-45F1F34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C5B59-81E2-4973-A081-79FEF77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F476D-236A-4160-8F22-8AEDFF9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15B01-495C-4DDA-822A-D4D55AB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FACD2-9F2E-4BAB-B36E-3D39D5EE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0FC-BB59-4E71-BDB8-A3B4095E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C7F-9C48-447C-B826-E844241D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D57-A5CC-40AF-863C-BC651452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9C25-37F7-46F5-9F4C-59DB9590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0A4-E3B9-47EB-AACB-B26C62F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CB7-8601-4F26-874E-BEE5037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CB22-D4F3-473C-8E11-F91F7268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E728-5C91-4CA5-93F2-6449AAC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AC40-4CDD-4608-907B-6234353E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7BF3-FA73-44EF-BC70-EE0EEAB1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5012-40D1-4B50-91C7-59975012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F860-F602-44F1-9750-A5DF1966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2EFB-0D1A-41F9-A619-DDD4869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E821-2742-4612-87B7-D5704162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EA47-73B0-47E2-93F1-B7DFECBF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E9C-3D48-42EC-95F4-CC51807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87EC-EB5B-4060-A028-344206FD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5E93-3FDF-4E7C-8F89-81F7958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FB56-F380-4918-B7E7-D6F4127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B2E8-762D-4AED-BB90-5C68FBA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E919-D4C7-437B-BA1F-27A10729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48B1-4860-4767-8B34-22407275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F01E-0185-452A-ACDE-BCB4448B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DA09-7AB7-4A1E-A69C-E1747F11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9AAD-2385-402E-8BE9-97C9DECA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E946-BB3A-4DAE-B8D1-E04BE2A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648-A6E1-4AA2-8C6F-A0F48A5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F950-FA9D-44EF-86DC-8C40408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02CC-EED0-46CE-9E19-C482962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37F8-3E28-45F8-8CB6-B716420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5FB5-882E-4425-A02D-F203FE6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1B32-21A9-4115-93E1-6B45655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5A76-9420-48FB-BEBA-556D16E6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B672-5F94-4075-AD00-C79C1F4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197F-E6D3-4B1E-8310-04C80483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C5E8-9B3A-4F23-AD0E-3DA693C0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44C9-9536-464F-BD74-BDB9DFBC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4AB-BBC3-4B13-8908-9F907B9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D845-A296-4C7A-A7E8-ED2341E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37BB-7F19-40CA-BAB6-F4B3311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CF58F-AC6F-4A53-A362-5C26ED08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617A-F125-46AF-AD0C-284B16D5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8EDD-2507-4104-B95E-DB44770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3CD3-069A-4C02-A430-1027A763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1D595-37FD-4557-BBEB-838CD46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B3990-FF37-4FDC-82C1-6E1CAD38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FC0E-9AC0-4670-901D-168CEFA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1833-1BCE-4335-AF95-91C64D8B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C0E-7D2B-4D32-9FFC-60719AE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7DE8-5682-4A81-9C79-9E441DD4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7B72-CBAB-4F7C-9FA2-B47B425E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3DC7-0DE6-4C82-8965-2B9D9BB0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AC1F-4C56-4C3B-921C-4DEB64E5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3CAF-80FA-467A-AE4C-5704F6F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1E77C-4803-452B-981F-DF275D54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FAF7-19A6-43B1-8A4B-ECE938A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7E6E-12DF-42FD-BD21-87D6997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2ACF-071E-4301-B3ED-4C1B6B6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DF15-7489-483D-9542-59ACE1A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F78-56DB-4C96-A57F-1BC3CA7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D856-281F-423A-B099-18E087F6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24E7-993C-4189-9899-B8E46930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A8A9-0FCD-4B50-AD9C-645E777D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54FC2-0B71-4ED5-B2F2-A681DBDD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CD4E-9034-4CC3-A37F-234C621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9E36-6206-4A54-BDDA-92B77D6C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9B62-03FA-4CE5-B8DE-DFE08DF9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5368-4BFE-4F66-B190-DC0125E4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80493-DDD0-4B5C-9F06-CCB7140A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3EF1E-1A46-407A-AE53-8A9F72D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743-FEB9-44A3-84B7-C65F4934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E10D-2C1A-4310-B0FA-DA4249E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D86FC-5FBE-471F-9A14-61EA8F4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7D20-BA82-431C-8E60-B6DF579A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6A7B-1083-43B6-924A-4E0847C7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F835-A5E3-4EA9-A956-7E96AC72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C195-130F-4B76-90DA-59A294D1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29EC5-8A74-4CC4-AC6B-7E9133E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7C400-4416-40F4-A157-1A59E0E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7CAD-3DFE-4A0A-B409-A39D389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AE937-7E53-4644-8DF9-2AC50A52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97A-C1F7-4EBE-AD49-3BBFAD4E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7591C-5322-4A9F-9929-CD61676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CFCE-9D69-4FDD-B580-481B641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506AA-2340-4F41-9324-840CB40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BCE0-9A13-4F50-9A1D-D7934850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E7264-D356-4C9C-BD8C-687D206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36D88-5C1A-48D1-BCDB-8465A03A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72A78-5675-41DE-B434-504CF59F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9DDC8-D00C-46C7-8B84-BE46F946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38EB-7BB2-4073-AA76-9F8AB080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D53C9-2F98-4703-8CBD-A9B14AD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E01-AB29-4EDC-956C-525034CD08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5EFA-C437-4BE2-8389-94A7994BC4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BD6D-8D69-4359-B1F1-14B6E5DA8F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50A0-61C2-40E3-8228-03D27B9859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B27-1D57-4EA1-99CD-C82EC17270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3D6A-FA6D-4387-9A32-0894396306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E58-894A-43D6-8A37-50EC1F41EB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403-180D-4C1A-93CF-27853093E2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45A5-05F0-402E-9559-EA0CB7E2B0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621-F07A-4591-AA4C-AA88FF6941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D52E-0B12-49F7-BB32-E0EF5DBA3E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5D73-6D86-4CD2-8A51-15EA5A0537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96F7-30A5-4919-9E1D-0B95E97072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DAF-830D-433C-8A2B-CCE9B74CD9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F1C4-B5DF-4C8A-A203-F5AEE902542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772-B2C8-4F83-908A-E50F80A6C1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2401-5E16-484C-9B4C-69F13C2996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E1C6-F748-40CF-A43B-6C972DB09A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F20-7123-4B6F-8562-7031765EF6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8E27-8987-4FEC-9909-BA713017A7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DF3-313B-4D0B-946F-0C8BA693C0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4EE7-E266-4E7B-B06F-187F2A9596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855F-E713-497C-A273-EA079EBC2F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F8A-77AD-4B41-B255-84311FDA1D6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6286-B082-4A77-B0B7-8E22A209C27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99F-0137-4BD2-857C-9A31709F81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99"/>
          <p:cNvSpPr/>
          <p:nvPr/>
        </p:nvSpPr>
        <p:spPr>
          <a:xfrm>
            <a:off x="2268000" y="1957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农产品品牌运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00"/>
          <p:cNvSpPr/>
          <p:nvPr/>
        </p:nvSpPr>
        <p:spPr>
          <a:xfrm>
            <a:off x="1644120" y="30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01"/>
          <p:cNvGrpSpPr/>
          <p:nvPr/>
        </p:nvGrpSpPr>
        <p:grpSpPr>
          <a:xfrm>
            <a:off x="749160" y="2766600"/>
            <a:ext cx="5996160" cy="195840"/>
            <a:chOff x="749160" y="2766600"/>
            <a:chExt cx="5996160" cy="195840"/>
          </a:xfrm>
        </p:grpSpPr>
        <p:sp>
          <p:nvSpPr>
            <p:cNvPr id="550" name="矩形 102"/>
            <p:cNvSpPr/>
            <p:nvPr/>
          </p:nvSpPr>
          <p:spPr>
            <a:xfrm rot="16200000">
              <a:off x="3722400" y="-145440"/>
              <a:ext cx="49320" cy="59961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03"/>
            <p:cNvSpPr/>
            <p:nvPr/>
          </p:nvSpPr>
          <p:spPr>
            <a:xfrm rot="16200000">
              <a:off x="3735000" y="-192960"/>
              <a:ext cx="24480" cy="59961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4"/>
            <p:cNvSpPr/>
            <p:nvPr/>
          </p:nvSpPr>
          <p:spPr>
            <a:xfrm rot="16200000">
              <a:off x="3739680" y="-223920"/>
              <a:ext cx="14760" cy="599616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105"/>
            <p:cNvSpPr/>
            <p:nvPr/>
          </p:nvSpPr>
          <p:spPr>
            <a:xfrm rot="16200000">
              <a:off x="3710160" y="-72360"/>
              <a:ext cx="74160" cy="59961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图片 9" descr=""/>
          <p:cNvPicPr/>
          <p:nvPr/>
        </p:nvPicPr>
        <p:blipFill>
          <a:blip r:embed="rId2"/>
          <a:stretch/>
        </p:blipFill>
        <p:spPr>
          <a:xfrm>
            <a:off x="3146400" y="3110040"/>
            <a:ext cx="257184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品牌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31"/>
          <p:cNvGrpSpPr/>
          <p:nvPr/>
        </p:nvGrpSpPr>
        <p:grpSpPr>
          <a:xfrm>
            <a:off x="504360" y="1411200"/>
            <a:ext cx="4429080" cy="4622400"/>
            <a:chOff x="504360" y="1411200"/>
            <a:chExt cx="4429080" cy="4622400"/>
          </a:xfrm>
        </p:grpSpPr>
        <p:sp>
          <p:nvSpPr>
            <p:cNvPr id="628" name="任意多边形 29"/>
            <p:cNvSpPr/>
            <p:nvPr/>
          </p:nvSpPr>
          <p:spPr>
            <a:xfrm flipH="1" flipV="1">
              <a:off x="1591200" y="3770640"/>
              <a:ext cx="2298600" cy="2262600"/>
            </a:xfrm>
            <a:custGeom>
              <a:avLst/>
              <a:gdLst/>
              <a:ahLst/>
              <a:rect l="l" t="t" r="r" b="b"/>
              <a:pathLst>
                <a:path w="2969116" h="2922369">
                  <a:moveTo>
                    <a:pt x="1299463" y="2197576"/>
                  </a:moveTo>
                  <a:lnTo>
                    <a:pt x="1332628" y="2207871"/>
                  </a:lnTo>
                  <a:lnTo>
                    <a:pt x="1315965" y="2224739"/>
                  </a:lnTo>
                  <a:lnTo>
                    <a:pt x="1299463" y="2197576"/>
                  </a:lnTo>
                  <a:close/>
                  <a:moveTo>
                    <a:pt x="0" y="1484558"/>
                  </a:moveTo>
                  <a:cubicBezTo>
                    <a:pt x="0" y="664659"/>
                    <a:pt x="664659" y="0"/>
                    <a:pt x="1484558" y="0"/>
                  </a:cubicBezTo>
                  <a:cubicBezTo>
                    <a:pt x="2304457" y="0"/>
                    <a:pt x="2969116" y="664659"/>
                    <a:pt x="2969116" y="1484558"/>
                  </a:cubicBezTo>
                  <a:cubicBezTo>
                    <a:pt x="2969116" y="1946953"/>
                    <a:pt x="2757717" y="2359972"/>
                    <a:pt x="2426295" y="2632241"/>
                  </a:cubicBezTo>
                  <a:lnTo>
                    <a:pt x="2291178" y="2729920"/>
                  </a:lnTo>
                  <a:lnTo>
                    <a:pt x="2483627" y="2922369"/>
                  </a:lnTo>
                  <a:lnTo>
                    <a:pt x="1563589" y="2922369"/>
                  </a:lnTo>
                  <a:lnTo>
                    <a:pt x="1563589" y="2002331"/>
                  </a:lnTo>
                  <a:lnTo>
                    <a:pt x="1737709" y="2176450"/>
                  </a:lnTo>
                  <a:lnTo>
                    <a:pt x="1772305" y="2165711"/>
                  </a:lnTo>
                  <a:cubicBezTo>
                    <a:pt x="2037632" y="2053487"/>
                    <a:pt x="2223804" y="1790764"/>
                    <a:pt x="2223804" y="1484558"/>
                  </a:cubicBezTo>
                  <a:cubicBezTo>
                    <a:pt x="2223804" y="1076284"/>
                    <a:pt x="1892832" y="745312"/>
                    <a:pt x="1484558" y="745312"/>
                  </a:cubicBezTo>
                  <a:cubicBezTo>
                    <a:pt x="1076284" y="745312"/>
                    <a:pt x="745312" y="1076284"/>
                    <a:pt x="745312" y="1484558"/>
                  </a:cubicBezTo>
                  <a:cubicBezTo>
                    <a:pt x="745312" y="1535593"/>
                    <a:pt x="750483" y="1585419"/>
                    <a:pt x="760331" y="1633542"/>
                  </a:cubicBezTo>
                  <a:lnTo>
                    <a:pt x="776482" y="1685572"/>
                  </a:lnTo>
                  <a:lnTo>
                    <a:pt x="740539" y="1663736"/>
                  </a:lnTo>
                  <a:cubicBezTo>
                    <a:pt x="530187" y="1549466"/>
                    <a:pt x="289129" y="1484558"/>
                    <a:pt x="32911" y="1484558"/>
                  </a:cubicBezTo>
                  <a:lnTo>
                    <a:pt x="83" y="1486216"/>
                  </a:lnTo>
                  <a:lnTo>
                    <a:pt x="0" y="1484558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27"/>
            <p:cNvSpPr/>
            <p:nvPr/>
          </p:nvSpPr>
          <p:spPr>
            <a:xfrm>
              <a:off x="1578240" y="1411200"/>
              <a:ext cx="2298600" cy="2252880"/>
            </a:xfrm>
            <a:custGeom>
              <a:avLst/>
              <a:gdLst/>
              <a:ahLst/>
              <a:rect l="l" t="t" r="r" b="b"/>
              <a:pathLst>
                <a:path w="2969116" h="2910073">
                  <a:moveTo>
                    <a:pt x="1332628" y="2207871"/>
                  </a:moveTo>
                  <a:lnTo>
                    <a:pt x="1315965" y="2224739"/>
                  </a:lnTo>
                  <a:lnTo>
                    <a:pt x="1299463" y="2197576"/>
                  </a:lnTo>
                  <a:lnTo>
                    <a:pt x="1332628" y="2207871"/>
                  </a:lnTo>
                  <a:close/>
                  <a:moveTo>
                    <a:pt x="2969116" y="1484558"/>
                  </a:moveTo>
                  <a:cubicBezTo>
                    <a:pt x="2969116" y="2013009"/>
                    <a:pt x="2693003" y="2476970"/>
                    <a:pt x="2277174" y="2740043"/>
                  </a:cubicBezTo>
                  <a:lnTo>
                    <a:pt x="2271609" y="2743220"/>
                  </a:lnTo>
                  <a:lnTo>
                    <a:pt x="2438462" y="2910073"/>
                  </a:lnTo>
                  <a:lnTo>
                    <a:pt x="1518424" y="2910073"/>
                  </a:lnTo>
                  <a:lnTo>
                    <a:pt x="1518424" y="1990035"/>
                  </a:lnTo>
                  <a:lnTo>
                    <a:pt x="1712626" y="2184237"/>
                  </a:lnTo>
                  <a:lnTo>
                    <a:pt x="1772305" y="2165711"/>
                  </a:lnTo>
                  <a:cubicBezTo>
                    <a:pt x="2037632" y="2053487"/>
                    <a:pt x="2223804" y="1790764"/>
                    <a:pt x="2223804" y="1484558"/>
                  </a:cubicBezTo>
                  <a:cubicBezTo>
                    <a:pt x="2223804" y="1076284"/>
                    <a:pt x="1892832" y="745312"/>
                    <a:pt x="1484558" y="745312"/>
                  </a:cubicBezTo>
                  <a:cubicBezTo>
                    <a:pt x="1076284" y="745312"/>
                    <a:pt x="745312" y="1076284"/>
                    <a:pt x="745312" y="1484558"/>
                  </a:cubicBezTo>
                  <a:cubicBezTo>
                    <a:pt x="745312" y="1535593"/>
                    <a:pt x="750483" y="1585419"/>
                    <a:pt x="760331" y="1633542"/>
                  </a:cubicBezTo>
                  <a:lnTo>
                    <a:pt x="776482" y="1685572"/>
                  </a:lnTo>
                  <a:lnTo>
                    <a:pt x="740539" y="1663736"/>
                  </a:lnTo>
                  <a:cubicBezTo>
                    <a:pt x="530187" y="1549466"/>
                    <a:pt x="289129" y="1484558"/>
                    <a:pt x="32911" y="1484558"/>
                  </a:cubicBezTo>
                  <a:lnTo>
                    <a:pt x="83" y="1486216"/>
                  </a:lnTo>
                  <a:lnTo>
                    <a:pt x="0" y="1484558"/>
                  </a:lnTo>
                  <a:cubicBezTo>
                    <a:pt x="0" y="664659"/>
                    <a:pt x="664659" y="0"/>
                    <a:pt x="1484558" y="0"/>
                  </a:cubicBezTo>
                  <a:cubicBezTo>
                    <a:pt x="2304457" y="0"/>
                    <a:pt x="2969116" y="664659"/>
                    <a:pt x="2969116" y="1484558"/>
                  </a:cubicBez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28"/>
            <p:cNvSpPr/>
            <p:nvPr/>
          </p:nvSpPr>
          <p:spPr>
            <a:xfrm flipH="1" rot="10800000">
              <a:off x="2763360" y="2615040"/>
              <a:ext cx="2170080" cy="2295720"/>
            </a:xfrm>
            <a:custGeom>
              <a:avLst/>
              <a:gdLst/>
              <a:ahLst/>
              <a:rect l="l" t="t" r="r" b="b"/>
              <a:pathLst>
                <a:path w="2803108" h="2965187">
                  <a:moveTo>
                    <a:pt x="621042" y="1721756"/>
                  </a:moveTo>
                  <a:lnTo>
                    <a:pt x="608331" y="1689440"/>
                  </a:lnTo>
                  <a:lnTo>
                    <a:pt x="592737" y="1707301"/>
                  </a:lnTo>
                  <a:lnTo>
                    <a:pt x="621042" y="1721756"/>
                  </a:lnTo>
                  <a:close/>
                  <a:moveTo>
                    <a:pt x="2802546" y="1527174"/>
                  </a:moveTo>
                  <a:cubicBezTo>
                    <a:pt x="2803923" y="1477030"/>
                    <a:pt x="2802781" y="1426339"/>
                    <a:pt x="2799005" y="1375234"/>
                  </a:cubicBezTo>
                  <a:cubicBezTo>
                    <a:pt x="2738590" y="557564"/>
                    <a:pt x="2026762" y="-56312"/>
                    <a:pt x="1209092" y="4103"/>
                  </a:cubicBezTo>
                  <a:cubicBezTo>
                    <a:pt x="747954" y="38175"/>
                    <a:pt x="351635" y="279433"/>
                    <a:pt x="104528" y="630017"/>
                  </a:cubicBezTo>
                  <a:lnTo>
                    <a:pt x="95946" y="643946"/>
                  </a:lnTo>
                  <a:lnTo>
                    <a:pt x="3849" y="551849"/>
                  </a:lnTo>
                  <a:lnTo>
                    <a:pt x="3849" y="795393"/>
                  </a:lnTo>
                  <a:lnTo>
                    <a:pt x="0" y="803463"/>
                  </a:lnTo>
                  <a:lnTo>
                    <a:pt x="3849" y="806823"/>
                  </a:lnTo>
                  <a:lnTo>
                    <a:pt x="3849" y="1471887"/>
                  </a:lnTo>
                  <a:lnTo>
                    <a:pt x="923887" y="1471887"/>
                  </a:lnTo>
                  <a:lnTo>
                    <a:pt x="642279" y="1190279"/>
                  </a:lnTo>
                  <a:lnTo>
                    <a:pt x="659733" y="1148928"/>
                  </a:lnTo>
                  <a:cubicBezTo>
                    <a:pt x="773311" y="926572"/>
                    <a:pt x="996809" y="767132"/>
                    <a:pt x="1264011" y="747389"/>
                  </a:cubicBezTo>
                  <a:cubicBezTo>
                    <a:pt x="1671175" y="717305"/>
                    <a:pt x="2025635" y="1022989"/>
                    <a:pt x="2055719" y="1430153"/>
                  </a:cubicBezTo>
                  <a:cubicBezTo>
                    <a:pt x="2085803" y="1837317"/>
                    <a:pt x="1780119" y="2191778"/>
                    <a:pt x="1372955" y="2221862"/>
                  </a:cubicBezTo>
                  <a:cubicBezTo>
                    <a:pt x="1322059" y="2225622"/>
                    <a:pt x="1271987" y="2224137"/>
                    <a:pt x="1223269" y="2217861"/>
                  </a:cubicBezTo>
                  <a:lnTo>
                    <a:pt x="1170191" y="2205588"/>
                  </a:lnTo>
                  <a:lnTo>
                    <a:pt x="1194616" y="2239825"/>
                  </a:lnTo>
                  <a:cubicBezTo>
                    <a:pt x="1324075" y="2441185"/>
                    <a:pt x="1406569" y="2676804"/>
                    <a:pt x="1425449" y="2932326"/>
                  </a:cubicBezTo>
                  <a:lnTo>
                    <a:pt x="1426214" y="2965187"/>
                  </a:lnTo>
                  <a:lnTo>
                    <a:pt x="1427874" y="2965147"/>
                  </a:lnTo>
                  <a:cubicBezTo>
                    <a:pt x="2194439" y="2908509"/>
                    <a:pt x="2781890" y="2279338"/>
                    <a:pt x="2802546" y="1527174"/>
                  </a:cubicBez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30"/>
            <p:cNvSpPr/>
            <p:nvPr/>
          </p:nvSpPr>
          <p:spPr>
            <a:xfrm flipV="1" rot="10800000">
              <a:off x="504360" y="2564280"/>
              <a:ext cx="2167920" cy="2296800"/>
            </a:xfrm>
            <a:custGeom>
              <a:avLst/>
              <a:gdLst/>
              <a:ahLst/>
              <a:rect l="l" t="t" r="r" b="b"/>
              <a:pathLst>
                <a:path w="2800257" h="2966877">
                  <a:moveTo>
                    <a:pt x="585976" y="1694015"/>
                  </a:moveTo>
                  <a:lnTo>
                    <a:pt x="614014" y="1708984"/>
                  </a:lnTo>
                  <a:lnTo>
                    <a:pt x="601894" y="1676442"/>
                  </a:lnTo>
                  <a:lnTo>
                    <a:pt x="585976" y="1694015"/>
                  </a:lnTo>
                  <a:close/>
                  <a:moveTo>
                    <a:pt x="0" y="517489"/>
                  </a:moveTo>
                  <a:lnTo>
                    <a:pt x="0" y="1437527"/>
                  </a:lnTo>
                  <a:lnTo>
                    <a:pt x="920038" y="1437527"/>
                  </a:lnTo>
                  <a:lnTo>
                    <a:pt x="649713" y="1167202"/>
                  </a:lnTo>
                  <a:lnTo>
                    <a:pt x="663134" y="1136956"/>
                  </a:lnTo>
                  <a:cubicBezTo>
                    <a:pt x="780745" y="916705"/>
                    <a:pt x="1007110" y="761364"/>
                    <a:pt x="1274627" y="746492"/>
                  </a:cubicBezTo>
                  <a:cubicBezTo>
                    <a:pt x="1682272" y="723831"/>
                    <a:pt x="2031104" y="1035922"/>
                    <a:pt x="2053765" y="1443567"/>
                  </a:cubicBezTo>
                  <a:cubicBezTo>
                    <a:pt x="2076426" y="1851212"/>
                    <a:pt x="1764335" y="2200044"/>
                    <a:pt x="1356690" y="2222705"/>
                  </a:cubicBezTo>
                  <a:cubicBezTo>
                    <a:pt x="1305734" y="2225537"/>
                    <a:pt x="1255698" y="2223140"/>
                    <a:pt x="1207102" y="2215978"/>
                  </a:cubicBezTo>
                  <a:lnTo>
                    <a:pt x="1154256" y="2202740"/>
                  </a:lnTo>
                  <a:lnTo>
                    <a:pt x="1178053" y="2237416"/>
                  </a:lnTo>
                  <a:cubicBezTo>
                    <a:pt x="1303823" y="2441101"/>
                    <a:pt x="1382011" y="2678185"/>
                    <a:pt x="1396232" y="2934008"/>
                  </a:cubicBezTo>
                  <a:lnTo>
                    <a:pt x="1396399" y="2966877"/>
                  </a:lnTo>
                  <a:lnTo>
                    <a:pt x="1398059" y="2966868"/>
                  </a:lnTo>
                  <a:cubicBezTo>
                    <a:pt x="2216694" y="2921360"/>
                    <a:pt x="2843436" y="2220834"/>
                    <a:pt x="2797928" y="1402199"/>
                  </a:cubicBezTo>
                  <a:cubicBezTo>
                    <a:pt x="2752420" y="583564"/>
                    <a:pt x="2051894" y="-43179"/>
                    <a:pt x="1233259" y="2329"/>
                  </a:cubicBezTo>
                  <a:cubicBezTo>
                    <a:pt x="771577" y="27994"/>
                    <a:pt x="370928" y="261992"/>
                    <a:pt x="117475" y="608016"/>
                  </a:cubicBezTo>
                  <a:lnTo>
                    <a:pt x="106943" y="624432"/>
                  </a:lnTo>
                  <a:lnTo>
                    <a:pt x="0" y="517489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文本框 38"/>
          <p:cNvSpPr/>
          <p:nvPr/>
        </p:nvSpPr>
        <p:spPr>
          <a:xfrm>
            <a:off x="2388960" y="2170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9"/>
          <p:cNvSpPr/>
          <p:nvPr/>
        </p:nvSpPr>
        <p:spPr>
          <a:xfrm>
            <a:off x="3538440" y="3421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40"/>
          <p:cNvSpPr/>
          <p:nvPr/>
        </p:nvSpPr>
        <p:spPr>
          <a:xfrm>
            <a:off x="2376360" y="4616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41"/>
          <p:cNvSpPr/>
          <p:nvPr/>
        </p:nvSpPr>
        <p:spPr>
          <a:xfrm>
            <a:off x="1247760" y="3367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42"/>
          <p:cNvSpPr/>
          <p:nvPr/>
        </p:nvSpPr>
        <p:spPr>
          <a:xfrm>
            <a:off x="6350040" y="1722600"/>
            <a:ext cx="447480" cy="44748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43"/>
          <p:cNvSpPr/>
          <p:nvPr/>
        </p:nvSpPr>
        <p:spPr>
          <a:xfrm>
            <a:off x="6350040" y="2919240"/>
            <a:ext cx="447480" cy="44784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44"/>
          <p:cNvSpPr/>
          <p:nvPr/>
        </p:nvSpPr>
        <p:spPr>
          <a:xfrm>
            <a:off x="6350040" y="4116240"/>
            <a:ext cx="447480" cy="44784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椭圆 45"/>
          <p:cNvSpPr/>
          <p:nvPr/>
        </p:nvSpPr>
        <p:spPr>
          <a:xfrm>
            <a:off x="6350040" y="5313240"/>
            <a:ext cx="447480" cy="44784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7"/>
          <p:cNvSpPr/>
          <p:nvPr/>
        </p:nvSpPr>
        <p:spPr>
          <a:xfrm>
            <a:off x="7414560" y="13780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b193"/>
                </a:solidFill>
                <a:latin typeface="微软雅黑"/>
                <a:ea typeface="微软雅黑"/>
              </a:rPr>
              <a:t>产品尖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FAB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法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8"/>
          <p:cNvSpPr/>
          <p:nvPr/>
        </p:nvSpPr>
        <p:spPr>
          <a:xfrm>
            <a:off x="7594200" y="257508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爆品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大于一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9"/>
          <p:cNvSpPr/>
          <p:nvPr/>
        </p:nvSpPr>
        <p:spPr>
          <a:xfrm>
            <a:off x="7467120" y="377208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c84"/>
                </a:solidFill>
                <a:latin typeface="微软雅黑"/>
                <a:ea typeface="微软雅黑"/>
              </a:rPr>
              <a:t>沉锚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入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50"/>
          <p:cNvSpPr/>
          <p:nvPr/>
        </p:nvSpPr>
        <p:spPr>
          <a:xfrm>
            <a:off x="7570080" y="4983120"/>
            <a:ext cx="196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案例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西贝筱面村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凡客陈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2"/>
          <p:cNvSpPr/>
          <p:nvPr/>
        </p:nvSpPr>
        <p:spPr>
          <a:xfrm>
            <a:off x="349200" y="2309760"/>
            <a:ext cx="3044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F</a:t>
            </a:r>
            <a:r>
              <a:rPr b="1" lang="en-US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eature</a:t>
            </a:r>
            <a:r>
              <a:rPr b="1" lang="zh-CN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品质，一种产品能看得到、摸得着的东西，这也是一个产品最容易让客户相信的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23"/>
          <p:cNvSpPr/>
          <p:nvPr/>
        </p:nvSpPr>
        <p:spPr>
          <a:xfrm>
            <a:off x="8016840" y="2309760"/>
            <a:ext cx="3575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enefit</a:t>
            </a:r>
            <a:r>
              <a:rPr b="1" lang="zh-CN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种作用或者优势会给客户带来的利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4"/>
          <p:cNvSpPr/>
          <p:nvPr/>
        </p:nvSpPr>
        <p:spPr>
          <a:xfrm>
            <a:off x="4019400" y="2309760"/>
            <a:ext cx="36878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dvantage</a:t>
            </a:r>
            <a:r>
              <a:rPr b="1" lang="zh-CN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种属性将会给客户带来的作用或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24"/>
          <p:cNvSpPr/>
          <p:nvPr/>
        </p:nvSpPr>
        <p:spPr>
          <a:xfrm>
            <a:off x="2131200" y="5230800"/>
            <a:ext cx="166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案例：杨梅   特性：大、饱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用：甜、汁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好处：开胃健脾、生津止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084400" y="76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FAB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9"/>
          <p:cNvSpPr/>
          <p:nvPr/>
        </p:nvSpPr>
        <p:spPr>
          <a:xfrm>
            <a:off x="2836080" y="76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大于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"/>
          <p:cNvSpPr/>
          <p:nvPr/>
        </p:nvSpPr>
        <p:spPr>
          <a:xfrm>
            <a:off x="1931040" y="2774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定位核心：认知大于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1"/>
          <p:cNvSpPr/>
          <p:nvPr/>
        </p:nvSpPr>
        <p:spPr>
          <a:xfrm>
            <a:off x="8907480" y="277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核心：体验大于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右箭头 4"/>
          <p:cNvSpPr/>
          <p:nvPr/>
        </p:nvSpPr>
        <p:spPr>
          <a:xfrm>
            <a:off x="1414440" y="3144960"/>
            <a:ext cx="9299520" cy="822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5006880" y="337176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&lt;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占据</a:t>
            </a: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用户心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2070000" y="4137120"/>
            <a:ext cx="79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事实，从顾客认知出发，而非企业现实出发，建立认知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沉锚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2"/>
          <p:cNvSpPr/>
          <p:nvPr/>
        </p:nvSpPr>
        <p:spPr>
          <a:xfrm>
            <a:off x="2157480" y="1289160"/>
            <a:ext cx="7877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沉锚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入为主，第一印象、第一信息支配，沉入海底的锚把人们思想固定在某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128920" y="4017960"/>
            <a:ext cx="36720" cy="1500120"/>
            <a:chOff x="5128920" y="4017960"/>
            <a:chExt cx="36720" cy="1500120"/>
          </a:xfrm>
        </p:grpSpPr>
        <p:sp>
          <p:nvSpPr>
            <p:cNvPr id="673" name="Line 6"/>
            <p:cNvSpPr/>
            <p:nvPr/>
          </p:nvSpPr>
          <p:spPr>
            <a:xfrm flipH="1">
              <a:off x="5128920" y="4017960"/>
              <a:ext cx="36360" cy="15001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5129280" y="4017960"/>
              <a:ext cx="36360" cy="150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32760" y="3927600"/>
            <a:ext cx="360" cy="1590480"/>
            <a:chOff x="7232760" y="3927600"/>
            <a:chExt cx="360" cy="1590480"/>
          </a:xfrm>
        </p:grpSpPr>
        <p:sp>
          <p:nvSpPr>
            <p:cNvPr id="676" name="Line 7"/>
            <p:cNvSpPr/>
            <p:nvPr/>
          </p:nvSpPr>
          <p:spPr>
            <a:xfrm>
              <a:off x="7232760" y="3927600"/>
              <a:ext cx="0" cy="15904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7232760" y="3927600"/>
              <a:ext cx="360" cy="159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Freeform 9"/>
          <p:cNvSpPr/>
          <p:nvPr/>
        </p:nvSpPr>
        <p:spPr>
          <a:xfrm>
            <a:off x="3130560" y="2398680"/>
            <a:ext cx="6767640" cy="162252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78360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26"/>
          <p:cNvSpPr/>
          <p:nvPr/>
        </p:nvSpPr>
        <p:spPr>
          <a:xfrm>
            <a:off x="573120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尖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7"/>
          <p:cNvSpPr/>
          <p:nvPr/>
        </p:nvSpPr>
        <p:spPr>
          <a:xfrm>
            <a:off x="807768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8"/>
          <p:cNvSpPr/>
          <p:nvPr/>
        </p:nvSpPr>
        <p:spPr>
          <a:xfrm>
            <a:off x="4611960" y="5702400"/>
            <a:ext cx="29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为中心进行驱动  可感知的用户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米跑分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PPO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6"/>
          <p:cNvSpPr/>
          <p:nvPr/>
        </p:nvSpPr>
        <p:spPr>
          <a:xfrm>
            <a:off x="825480" y="1922400"/>
            <a:ext cx="1041480" cy="102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  <a:ea typeface="Arial Unicode MS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7"/>
          <p:cNvSpPr/>
          <p:nvPr/>
        </p:nvSpPr>
        <p:spPr>
          <a:xfrm>
            <a:off x="1440" y="2949480"/>
            <a:ext cx="1403640" cy="1954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心圆 18"/>
          <p:cNvSpPr/>
          <p:nvPr/>
        </p:nvSpPr>
        <p:spPr>
          <a:xfrm>
            <a:off x="628560" y="1741320"/>
            <a:ext cx="1424160" cy="1403640"/>
          </a:xfrm>
          <a:custGeom>
            <a:avLst/>
            <a:gdLst/>
            <a:ahLst/>
            <a:rect l="l" t="t" r="r" b="b"/>
            <a:pathLst>
              <a:path w="1423987" h="1403350">
                <a:moveTo>
                  <a:pt x="0" y="701675"/>
                </a:moveTo>
                <a:cubicBezTo>
                  <a:pt x="0" y="314151"/>
                  <a:pt x="318770" y="0"/>
                  <a:pt x="711993" y="0"/>
                </a:cubicBezTo>
                <a:cubicBezTo>
                  <a:pt x="1105216" y="0"/>
                  <a:pt x="1423986" y="314151"/>
                  <a:pt x="1423986" y="701675"/>
                </a:cubicBezTo>
                <a:cubicBezTo>
                  <a:pt x="1423986" y="1089199"/>
                  <a:pt x="1105216" y="1403350"/>
                  <a:pt x="711993" y="1403350"/>
                </a:cubicBezTo>
                <a:cubicBezTo>
                  <a:pt x="318770" y="1403350"/>
                  <a:pt x="0" y="1089199"/>
                  <a:pt x="0" y="701675"/>
                </a:cubicBezTo>
                <a:close/>
                <a:moveTo>
                  <a:pt x="194335" y="701675"/>
                </a:moveTo>
                <a:cubicBezTo>
                  <a:pt x="194335" y="981871"/>
                  <a:pt x="426098" y="1209014"/>
                  <a:pt x="711992" y="1209014"/>
                </a:cubicBezTo>
                <a:cubicBezTo>
                  <a:pt x="997886" y="1209014"/>
                  <a:pt x="1229649" y="981871"/>
                  <a:pt x="1229649" y="701675"/>
                </a:cubicBezTo>
                <a:cubicBezTo>
                  <a:pt x="1229649" y="421479"/>
                  <a:pt x="997886" y="194336"/>
                  <a:pt x="711992" y="194336"/>
                </a:cubicBezTo>
                <a:cubicBezTo>
                  <a:pt x="426098" y="194336"/>
                  <a:pt x="194335" y="421479"/>
                  <a:pt x="194335" y="701675"/>
                </a:cubicBez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6"/>
          <p:cNvSpPr/>
          <p:nvPr/>
        </p:nvSpPr>
        <p:spPr>
          <a:xfrm>
            <a:off x="2133720" y="1920960"/>
            <a:ext cx="3087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有触网的思维和动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怕错，要快速试错，反复试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21"/>
          <p:cNvSpPr/>
          <p:nvPr/>
        </p:nvSpPr>
        <p:spPr>
          <a:xfrm>
            <a:off x="1440" y="3475080"/>
            <a:ext cx="5948640" cy="179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组 4" descr=""/>
          <p:cNvPicPr/>
          <p:nvPr/>
        </p:nvPicPr>
        <p:blipFill>
          <a:blip r:embed="rId1"/>
          <a:stretch/>
        </p:blipFill>
        <p:spPr>
          <a:xfrm>
            <a:off x="5060880" y="2260440"/>
            <a:ext cx="1424160" cy="1405080"/>
          </a:xfrm>
          <a:prstGeom prst="rect">
            <a:avLst/>
          </a:prstGeom>
          <a:ln w="0">
            <a:noFill/>
          </a:ln>
        </p:spPr>
      </p:pic>
      <p:sp>
        <p:nvSpPr>
          <p:cNvPr id="695" name="椭圆 23"/>
          <p:cNvSpPr/>
          <p:nvPr/>
        </p:nvSpPr>
        <p:spPr>
          <a:xfrm>
            <a:off x="3835440" y="4154400"/>
            <a:ext cx="1039680" cy="102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  <a:ea typeface="Arial Unicode MS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4"/>
          <p:cNvSpPr/>
          <p:nvPr/>
        </p:nvSpPr>
        <p:spPr>
          <a:xfrm>
            <a:off x="1440" y="3973680"/>
            <a:ext cx="4356360" cy="195120"/>
          </a:xfrm>
          <a:prstGeom prst="rect">
            <a:avLst/>
          </a:prstGeom>
          <a:solidFill>
            <a:srgbClr val="f07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同心圆 25"/>
          <p:cNvSpPr/>
          <p:nvPr/>
        </p:nvSpPr>
        <p:spPr>
          <a:xfrm flipV="1">
            <a:off x="3637080" y="3973680"/>
            <a:ext cx="1423800" cy="1403280"/>
          </a:xfrm>
          <a:custGeom>
            <a:avLst/>
            <a:gdLst/>
            <a:ahLst/>
            <a:rect l="l" t="t" r="r" b="b"/>
            <a:pathLst>
              <a:path w="1423987" h="1403350">
                <a:moveTo>
                  <a:pt x="0" y="701675"/>
                </a:moveTo>
                <a:cubicBezTo>
                  <a:pt x="0" y="314151"/>
                  <a:pt x="318770" y="0"/>
                  <a:pt x="711993" y="0"/>
                </a:cubicBezTo>
                <a:cubicBezTo>
                  <a:pt x="1105216" y="0"/>
                  <a:pt x="1423986" y="314151"/>
                  <a:pt x="1423986" y="701675"/>
                </a:cubicBezTo>
                <a:cubicBezTo>
                  <a:pt x="1423986" y="1089199"/>
                  <a:pt x="1105216" y="1403350"/>
                  <a:pt x="711993" y="1403350"/>
                </a:cubicBezTo>
                <a:cubicBezTo>
                  <a:pt x="318770" y="1403350"/>
                  <a:pt x="0" y="1089199"/>
                  <a:pt x="0" y="701675"/>
                </a:cubicBezTo>
                <a:close/>
                <a:moveTo>
                  <a:pt x="194335" y="701675"/>
                </a:moveTo>
                <a:cubicBezTo>
                  <a:pt x="194335" y="981871"/>
                  <a:pt x="426098" y="1209014"/>
                  <a:pt x="711992" y="1209014"/>
                </a:cubicBezTo>
                <a:cubicBezTo>
                  <a:pt x="997886" y="1209014"/>
                  <a:pt x="1229649" y="981871"/>
                  <a:pt x="1229649" y="701675"/>
                </a:cubicBezTo>
                <a:cubicBezTo>
                  <a:pt x="1229649" y="421479"/>
                  <a:pt x="997886" y="194336"/>
                  <a:pt x="711992" y="194336"/>
                </a:cubicBezTo>
                <a:cubicBezTo>
                  <a:pt x="426098" y="194336"/>
                  <a:pt x="194335" y="421479"/>
                  <a:pt x="194335" y="701675"/>
                </a:cubicBezTo>
                <a:close/>
              </a:path>
            </a:pathLst>
          </a:custGeom>
          <a:solidFill>
            <a:srgbClr val="f07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3"/>
          <p:cNvSpPr/>
          <p:nvPr/>
        </p:nvSpPr>
        <p:spPr>
          <a:xfrm>
            <a:off x="6732720" y="2603520"/>
            <a:ext cx="259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是一个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款是一个局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4"/>
          <p:cNvSpPr/>
          <p:nvPr/>
        </p:nvSpPr>
        <p:spPr>
          <a:xfrm>
            <a:off x="5221440" y="4278240"/>
            <a:ext cx="3476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就如同一个黑暗森林，只有爆品才能绽放烟花，要爆得高，爆得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7"/>
          <p:cNvSpPr/>
          <p:nvPr/>
        </p:nvSpPr>
        <p:spPr>
          <a:xfrm>
            <a:off x="7365600" y="1846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流量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"/>
          <p:cNvSpPr/>
          <p:nvPr/>
        </p:nvSpPr>
        <p:spPr>
          <a:xfrm>
            <a:off x="4345920" y="1766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竞争得本质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流量的竞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7"/>
          <p:cNvSpPr/>
          <p:nvPr/>
        </p:nvSpPr>
        <p:spPr>
          <a:xfrm>
            <a:off x="5371200" y="3198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？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传统企业转型做互联网一不小心就被互联网公司干掉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0"/>
          <p:cNvSpPr/>
          <p:nvPr/>
        </p:nvSpPr>
        <p:spPr>
          <a:xfrm>
            <a:off x="2924640" y="4267080"/>
            <a:ext cx="60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？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传统品牌流量经营方式，称之为“工厂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品牌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广告”的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互联网时代全面失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9"/>
          <p:cNvSpPr/>
          <p:nvPr/>
        </p:nvSpPr>
        <p:spPr>
          <a:xfrm>
            <a:off x="3418560" y="586584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传统企业和品牌的三大死亡法则：</a:t>
            </a:r>
            <a:r>
              <a:rPr b="1" lang="zh-CN" sz="2800" spc="-1" strike="noStrike" u="sng">
                <a:solidFill>
                  <a:srgbClr val="c06c84"/>
                </a:solidFill>
                <a:uFillTx/>
                <a:latin typeface="微软雅黑"/>
                <a:ea typeface="微软雅黑"/>
              </a:rPr>
              <a:t>无尽黑暗！暗刀涌动！效益递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9"/>
          <p:cNvSpPr/>
          <p:nvPr/>
        </p:nvSpPr>
        <p:spPr>
          <a:xfrm>
            <a:off x="5222160" y="243360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黑暗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圆角矩形 2"/>
          <p:cNvSpPr/>
          <p:nvPr/>
        </p:nvSpPr>
        <p:spPr>
          <a:xfrm>
            <a:off x="914400" y="3592440"/>
            <a:ext cx="10717200" cy="914400"/>
          </a:xfrm>
          <a:prstGeom prst="roundRect">
            <a:avLst>
              <a:gd name="adj" fmla="val 16667"/>
            </a:avLst>
          </a:prstGeom>
          <a:solidFill>
            <a:srgbClr val="c06c84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10"/>
          <p:cNvSpPr/>
          <p:nvPr/>
        </p:nvSpPr>
        <p:spPr>
          <a:xfrm>
            <a:off x="5519520" y="3817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提爆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 8"/>
          <p:cNvGrpSpPr/>
          <p:nvPr/>
        </p:nvGrpSpPr>
        <p:grpSpPr>
          <a:xfrm>
            <a:off x="914400" y="3591000"/>
            <a:ext cx="10717200" cy="914400"/>
            <a:chOff x="914400" y="3591000"/>
            <a:chExt cx="10717200" cy="914400"/>
          </a:xfrm>
        </p:grpSpPr>
        <p:sp>
          <p:nvSpPr>
            <p:cNvPr id="733" name="圆角矩形 15"/>
            <p:cNvSpPr/>
            <p:nvPr/>
          </p:nvSpPr>
          <p:spPr>
            <a:xfrm>
              <a:off x="914400" y="359100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11"/>
            <p:cNvSpPr/>
            <p:nvPr/>
          </p:nvSpPr>
          <p:spPr>
            <a:xfrm>
              <a:off x="3188160" y="3815280"/>
              <a:ext cx="62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互联网的流量黑暗森林里，遇到一个巨大的、无边的黑暗，伸手不见五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 7"/>
          <p:cNvGrpSpPr/>
          <p:nvPr/>
        </p:nvGrpSpPr>
        <p:grpSpPr>
          <a:xfrm>
            <a:off x="914400" y="3605040"/>
            <a:ext cx="10717200" cy="914400"/>
            <a:chOff x="914400" y="3605040"/>
            <a:chExt cx="10717200" cy="914400"/>
          </a:xfrm>
        </p:grpSpPr>
        <p:sp>
          <p:nvSpPr>
            <p:cNvPr id="736" name="圆角矩形 19"/>
            <p:cNvSpPr/>
            <p:nvPr/>
          </p:nvSpPr>
          <p:spPr>
            <a:xfrm>
              <a:off x="914400" y="360504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文本框 12"/>
            <p:cNvSpPr/>
            <p:nvPr/>
          </p:nvSpPr>
          <p:spPr>
            <a:xfrm>
              <a:off x="3353040" y="3831480"/>
              <a:ext cx="62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统线下品牌依靠线下开店，不做广告，流量可能滚滚而来，因为区域流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 6"/>
          <p:cNvGrpSpPr/>
          <p:nvPr/>
        </p:nvGrpSpPr>
        <p:grpSpPr>
          <a:xfrm>
            <a:off x="914400" y="3605040"/>
            <a:ext cx="10717200" cy="914400"/>
            <a:chOff x="914400" y="3605040"/>
            <a:chExt cx="10717200" cy="914400"/>
          </a:xfrm>
        </p:grpSpPr>
        <p:sp>
          <p:nvSpPr>
            <p:cNvPr id="739" name="圆角矩形 20"/>
            <p:cNvSpPr/>
            <p:nvPr/>
          </p:nvSpPr>
          <p:spPr>
            <a:xfrm>
              <a:off x="914400" y="360504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文本框 13"/>
            <p:cNvSpPr/>
            <p:nvPr/>
          </p:nvSpPr>
          <p:spPr>
            <a:xfrm>
              <a:off x="3441600" y="3853080"/>
              <a:ext cx="585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上，只有爆品，烟花，才能让大家看到你，爆品的重要性于此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1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平行四边形 74"/>
          <p:cNvSpPr/>
          <p:nvPr/>
        </p:nvSpPr>
        <p:spPr>
          <a:xfrm flipH="1" flipV="1">
            <a:off x="6126120" y="3532320"/>
            <a:ext cx="3090960" cy="2031840"/>
          </a:xfrm>
          <a:prstGeom prst="parallelogram">
            <a:avLst>
              <a:gd name="adj" fmla="val 2499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77"/>
          <p:cNvSpPr/>
          <p:nvPr/>
        </p:nvSpPr>
        <p:spPr>
          <a:xfrm flipH="1" flipV="1">
            <a:off x="5388120" y="3532320"/>
            <a:ext cx="1923840" cy="203184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757236" y="2031999"/>
                </a:lnTo>
                <a:lnTo>
                  <a:pt x="126523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80"/>
          <p:cNvSpPr/>
          <p:nvPr/>
        </p:nvSpPr>
        <p:spPr>
          <a:xfrm flipH="1" flipV="1">
            <a:off x="8782920" y="3532320"/>
            <a:ext cx="1924200" cy="203184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938746" y="2031999"/>
                </a:lnTo>
                <a:lnTo>
                  <a:pt x="144674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83"/>
          <p:cNvSpPr/>
          <p:nvPr/>
        </p:nvSpPr>
        <p:spPr>
          <a:xfrm flipH="1" flipV="1">
            <a:off x="9334440" y="3532320"/>
            <a:ext cx="822240" cy="2031840"/>
          </a:xfrm>
          <a:custGeom>
            <a:avLst/>
            <a:gdLst/>
            <a:ahLst/>
            <a:rect l="l" t="t" r="r" b="b"/>
            <a:pathLst>
              <a:path w="822330" h="2031999">
                <a:moveTo>
                  <a:pt x="314330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822330" y="0"/>
                </a:lnTo>
                <a:lnTo>
                  <a:pt x="314330" y="2031999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任意多边形 86"/>
          <p:cNvSpPr/>
          <p:nvPr/>
        </p:nvSpPr>
        <p:spPr>
          <a:xfrm flipH="1" flipV="1">
            <a:off x="9725040" y="3532320"/>
            <a:ext cx="689040" cy="2031840"/>
          </a:xfrm>
          <a:custGeom>
            <a:avLst/>
            <a:gdLst/>
            <a:ahLst/>
            <a:rect l="l" t="t" r="r" b="b"/>
            <a:pathLst>
              <a:path w="688447" h="2031999">
                <a:moveTo>
                  <a:pt x="180447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688447" y="0"/>
                </a:lnTo>
                <a:lnTo>
                  <a:pt x="180447" y="2031999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平行四边形 89"/>
          <p:cNvSpPr/>
          <p:nvPr/>
        </p:nvSpPr>
        <p:spPr>
          <a:xfrm flipV="1">
            <a:off x="2709720" y="1425960"/>
            <a:ext cx="3090960" cy="2032200"/>
          </a:xfrm>
          <a:prstGeom prst="parallelogram">
            <a:avLst>
              <a:gd name="adj" fmla="val 2499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90"/>
          <p:cNvSpPr/>
          <p:nvPr/>
        </p:nvSpPr>
        <p:spPr>
          <a:xfrm flipV="1">
            <a:off x="4614840" y="1425960"/>
            <a:ext cx="1924200" cy="203220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757236" y="2031999"/>
                </a:lnTo>
                <a:lnTo>
                  <a:pt x="126523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任意多边形 91"/>
          <p:cNvSpPr/>
          <p:nvPr/>
        </p:nvSpPr>
        <p:spPr>
          <a:xfrm flipV="1">
            <a:off x="1219320" y="1425960"/>
            <a:ext cx="1923840" cy="203220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938746" y="2031999"/>
                </a:lnTo>
                <a:lnTo>
                  <a:pt x="144674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任意多边形 92"/>
          <p:cNvSpPr/>
          <p:nvPr/>
        </p:nvSpPr>
        <p:spPr>
          <a:xfrm flipV="1">
            <a:off x="1770120" y="1426320"/>
            <a:ext cx="822240" cy="2032200"/>
          </a:xfrm>
          <a:custGeom>
            <a:avLst/>
            <a:gdLst/>
            <a:ahLst/>
            <a:rect l="l" t="t" r="r" b="b"/>
            <a:pathLst>
              <a:path w="822330" h="2031999">
                <a:moveTo>
                  <a:pt x="314330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822330" y="0"/>
                </a:lnTo>
                <a:lnTo>
                  <a:pt x="314330" y="2031999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任意多边形 93"/>
          <p:cNvSpPr/>
          <p:nvPr/>
        </p:nvSpPr>
        <p:spPr>
          <a:xfrm flipV="1">
            <a:off x="1514520" y="1426320"/>
            <a:ext cx="689040" cy="2032200"/>
          </a:xfrm>
          <a:custGeom>
            <a:avLst/>
            <a:gdLst/>
            <a:ahLst/>
            <a:rect l="l" t="t" r="r" b="b"/>
            <a:pathLst>
              <a:path w="688447" h="2031999">
                <a:moveTo>
                  <a:pt x="180447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688447" y="0"/>
                </a:lnTo>
                <a:lnTo>
                  <a:pt x="180447" y="2031999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94"/>
          <p:cNvSpPr/>
          <p:nvPr/>
        </p:nvSpPr>
        <p:spPr>
          <a:xfrm>
            <a:off x="7094880" y="1550880"/>
            <a:ext cx="25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c5b7b"/>
                </a:solidFill>
                <a:latin typeface="Arial Rounded MT Bold"/>
                <a:ea typeface="Arial Rounded MT Bold"/>
              </a:rPr>
              <a:t>                   </a:t>
            </a:r>
            <a:r>
              <a:rPr b="0" lang="en-US" sz="3200" spc="-1" strike="noStrike">
                <a:solidFill>
                  <a:srgbClr val="6c5b7b"/>
                </a:solidFill>
                <a:latin typeface="Arial Rounded MT Bold"/>
                <a:ea typeface="Arial Rounded MT Bold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线下占</a:t>
            </a:r>
            <a:r>
              <a:rPr b="1" lang="en-US" sz="3200" spc="-1" strike="noStrike">
                <a:solidFill>
                  <a:srgbClr val="f07180"/>
                </a:solidFill>
                <a:latin typeface="Arial Rounded MT Bold"/>
                <a:ea typeface="Arial Rounded MT Bold"/>
              </a:rPr>
              <a:t>90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，线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95"/>
          <p:cNvSpPr/>
          <p:nvPr/>
        </p:nvSpPr>
        <p:spPr>
          <a:xfrm>
            <a:off x="2143080" y="3855960"/>
            <a:ext cx="274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07180"/>
                </a:solidFill>
                <a:latin typeface="Arial Rounded MT Bold"/>
                <a:ea typeface="Arial Rounded MT Bold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线上占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60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，线下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1"/>
          <p:cNvSpPr/>
          <p:nvPr/>
        </p:nvSpPr>
        <p:spPr>
          <a:xfrm>
            <a:off x="5559120" y="60069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7180"/>
                </a:solidFill>
                <a:latin typeface="微软雅黑"/>
                <a:ea typeface="微软雅黑"/>
              </a:rPr>
              <a:t>✦</a:t>
            </a:r>
            <a:r>
              <a:rPr b="1" lang="zh-CN" sz="2000" spc="-1" strike="noStrike">
                <a:solidFill>
                  <a:srgbClr val="f07180"/>
                </a:solidFill>
                <a:latin typeface="微软雅黑"/>
                <a:ea typeface="微软雅黑"/>
              </a:rPr>
              <a:t>线上引流的方式跟线下完全不一样。如果你不能掌握线上，你就会被黑暗吞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2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9"/>
          <p:cNvSpPr/>
          <p:nvPr/>
        </p:nvSpPr>
        <p:spPr>
          <a:xfrm>
            <a:off x="4529520" y="358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高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个法则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暗刀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"/>
          <p:cNvSpPr/>
          <p:nvPr/>
        </p:nvSpPr>
        <p:spPr>
          <a:xfrm>
            <a:off x="5936040" y="336852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r-I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21"/>
          <p:cNvSpPr/>
          <p:nvPr/>
        </p:nvSpPr>
        <p:spPr>
          <a:xfrm>
            <a:off x="6977520" y="358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c5b7b"/>
                </a:solidFill>
                <a:latin typeface="微软雅黑"/>
                <a:ea typeface="微软雅黑"/>
              </a:rPr>
              <a:t>低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22"/>
          <p:cNvSpPr/>
          <p:nvPr/>
        </p:nvSpPr>
        <p:spPr>
          <a:xfrm>
            <a:off x="3894120" y="4975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卖打团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3"/>
          <p:cNvSpPr/>
          <p:nvPr/>
        </p:nvSpPr>
        <p:spPr>
          <a:xfrm>
            <a:off x="5777640" y="4975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滴滴打易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24"/>
          <p:cNvSpPr/>
          <p:nvPr/>
        </p:nvSpPr>
        <p:spPr>
          <a:xfrm>
            <a:off x="7570800" y="49752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Ube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滴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任意多边形 111"/>
          <p:cNvSpPr/>
          <p:nvPr/>
        </p:nvSpPr>
        <p:spPr>
          <a:xfrm rot="20299800">
            <a:off x="5305320" y="6117840"/>
            <a:ext cx="3878280" cy="695520"/>
          </a:xfrm>
          <a:custGeom>
            <a:avLst/>
            <a:gdLst/>
            <a:ahLst/>
            <a:rect l="l" t="t" r="r" b="b"/>
            <a:pathLst>
              <a:path w="3877060" h="696658">
                <a:moveTo>
                  <a:pt x="3877060" y="0"/>
                </a:moveTo>
                <a:lnTo>
                  <a:pt x="3877060" y="696658"/>
                </a:lnTo>
                <a:lnTo>
                  <a:pt x="1753615" y="696658"/>
                </a:lnTo>
                <a:lnTo>
                  <a:pt x="0" y="0"/>
                </a:lnTo>
                <a:lnTo>
                  <a:pt x="3877060" y="0"/>
                </a:lnTo>
                <a:close/>
              </a:path>
            </a:pathLst>
          </a:custGeom>
          <a:solidFill>
            <a:srgbClr val="f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112"/>
          <p:cNvGrpSpPr/>
          <p:nvPr/>
        </p:nvGrpSpPr>
        <p:grpSpPr>
          <a:xfrm>
            <a:off x="3244680" y="2496960"/>
            <a:ext cx="5819760" cy="1405440"/>
            <a:chOff x="3244680" y="2496960"/>
            <a:chExt cx="5819760" cy="1405440"/>
          </a:xfrm>
        </p:grpSpPr>
        <p:sp>
          <p:nvSpPr>
            <p:cNvPr id="557" name="任意多边形 113"/>
            <p:cNvSpPr/>
            <p:nvPr/>
          </p:nvSpPr>
          <p:spPr>
            <a:xfrm rot="21420000">
              <a:off x="3269880" y="2647440"/>
              <a:ext cx="5433840" cy="111312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5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14"/>
            <p:cNvSpPr/>
            <p:nvPr/>
          </p:nvSpPr>
          <p:spPr>
            <a:xfrm rot="21420000">
              <a:off x="3606480" y="2638440"/>
              <a:ext cx="5432400" cy="111312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5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5"/>
          <p:cNvGrpSpPr/>
          <p:nvPr/>
        </p:nvGrpSpPr>
        <p:grpSpPr>
          <a:xfrm>
            <a:off x="3303720" y="3573360"/>
            <a:ext cx="5821560" cy="1403640"/>
            <a:chOff x="3303720" y="3573360"/>
            <a:chExt cx="5821560" cy="1403640"/>
          </a:xfrm>
        </p:grpSpPr>
        <p:sp>
          <p:nvSpPr>
            <p:cNvPr id="560" name="任意多边形 116"/>
            <p:cNvSpPr/>
            <p:nvPr/>
          </p:nvSpPr>
          <p:spPr>
            <a:xfrm rot="21420000">
              <a:off x="3328920" y="3723840"/>
              <a:ext cx="5435640" cy="111132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b85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17"/>
            <p:cNvSpPr/>
            <p:nvPr/>
          </p:nvSpPr>
          <p:spPr>
            <a:xfrm rot="21420000">
              <a:off x="3665520" y="3714480"/>
              <a:ext cx="5434200" cy="111132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b85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18"/>
          <p:cNvGrpSpPr/>
          <p:nvPr/>
        </p:nvGrpSpPr>
        <p:grpSpPr>
          <a:xfrm>
            <a:off x="3352680" y="4633560"/>
            <a:ext cx="5821200" cy="1419840"/>
            <a:chOff x="3352680" y="4633560"/>
            <a:chExt cx="5821200" cy="1419840"/>
          </a:xfrm>
        </p:grpSpPr>
        <p:sp>
          <p:nvSpPr>
            <p:cNvPr id="563" name="任意多边形 119"/>
            <p:cNvSpPr/>
            <p:nvPr/>
          </p:nvSpPr>
          <p:spPr>
            <a:xfrm rot="21420000">
              <a:off x="3377880" y="4774680"/>
              <a:ext cx="5435280" cy="111276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f45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120"/>
            <p:cNvSpPr/>
            <p:nvPr/>
          </p:nvSpPr>
          <p:spPr>
            <a:xfrm rot="21420000">
              <a:off x="3714480" y="4798800"/>
              <a:ext cx="5433840" cy="111276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f45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121"/>
          <p:cNvGrpSpPr/>
          <p:nvPr/>
        </p:nvGrpSpPr>
        <p:grpSpPr>
          <a:xfrm>
            <a:off x="8280360" y="0"/>
            <a:ext cx="1389240" cy="1287360"/>
            <a:chOff x="8280360" y="0"/>
            <a:chExt cx="1389240" cy="1287360"/>
          </a:xfrm>
        </p:grpSpPr>
        <p:sp>
          <p:nvSpPr>
            <p:cNvPr id="566" name="矩形 122"/>
            <p:cNvSpPr/>
            <p:nvPr/>
          </p:nvSpPr>
          <p:spPr>
            <a:xfrm>
              <a:off x="8280360" y="0"/>
              <a:ext cx="187560" cy="12873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23"/>
            <p:cNvSpPr/>
            <p:nvPr/>
          </p:nvSpPr>
          <p:spPr>
            <a:xfrm>
              <a:off x="8510040" y="0"/>
              <a:ext cx="297720" cy="12873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24"/>
            <p:cNvSpPr/>
            <p:nvPr/>
          </p:nvSpPr>
          <p:spPr>
            <a:xfrm>
              <a:off x="8849520" y="0"/>
              <a:ext cx="349920" cy="12873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25"/>
            <p:cNvSpPr/>
            <p:nvPr/>
          </p:nvSpPr>
          <p:spPr>
            <a:xfrm>
              <a:off x="9241560" y="0"/>
              <a:ext cx="428040" cy="128736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126"/>
          <p:cNvGrpSpPr/>
          <p:nvPr/>
        </p:nvGrpSpPr>
        <p:grpSpPr>
          <a:xfrm>
            <a:off x="2506680" y="0"/>
            <a:ext cx="1388880" cy="1287360"/>
            <a:chOff x="2506680" y="0"/>
            <a:chExt cx="1388880" cy="1287360"/>
          </a:xfrm>
        </p:grpSpPr>
        <p:sp>
          <p:nvSpPr>
            <p:cNvPr id="571" name="矩形 127"/>
            <p:cNvSpPr/>
            <p:nvPr/>
          </p:nvSpPr>
          <p:spPr>
            <a:xfrm flipH="1">
              <a:off x="3707640" y="0"/>
              <a:ext cx="187560" cy="12873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28"/>
            <p:cNvSpPr/>
            <p:nvPr/>
          </p:nvSpPr>
          <p:spPr>
            <a:xfrm flipH="1">
              <a:off x="3368880" y="0"/>
              <a:ext cx="297360" cy="12873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29"/>
            <p:cNvSpPr/>
            <p:nvPr/>
          </p:nvSpPr>
          <p:spPr>
            <a:xfrm flipH="1">
              <a:off x="2976480" y="0"/>
              <a:ext cx="349560" cy="12873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30"/>
            <p:cNvSpPr/>
            <p:nvPr/>
          </p:nvSpPr>
          <p:spPr>
            <a:xfrm flipH="1">
              <a:off x="2506320" y="0"/>
              <a:ext cx="428040" cy="128736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131"/>
          <p:cNvSpPr/>
          <p:nvPr/>
        </p:nvSpPr>
        <p:spPr>
          <a:xfrm>
            <a:off x="4137120" y="18108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T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32"/>
          <p:cNvSpPr/>
          <p:nvPr/>
        </p:nvSpPr>
        <p:spPr>
          <a:xfrm rot="21420000">
            <a:off x="3231720" y="2319120"/>
            <a:ext cx="5791320" cy="69660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33"/>
          <p:cNvSpPr/>
          <p:nvPr/>
        </p:nvSpPr>
        <p:spPr>
          <a:xfrm rot="21420000">
            <a:off x="3287520" y="3387240"/>
            <a:ext cx="5790960" cy="69696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34"/>
          <p:cNvSpPr/>
          <p:nvPr/>
        </p:nvSpPr>
        <p:spPr>
          <a:xfrm rot="21420000">
            <a:off x="3343320" y="4470120"/>
            <a:ext cx="5791320" cy="69516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35"/>
          <p:cNvSpPr/>
          <p:nvPr/>
        </p:nvSpPr>
        <p:spPr>
          <a:xfrm rot="21420000">
            <a:off x="3398400" y="5517720"/>
            <a:ext cx="5791320" cy="69696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36"/>
          <p:cNvSpPr/>
          <p:nvPr/>
        </p:nvSpPr>
        <p:spPr>
          <a:xfrm rot="21360000">
            <a:off x="5639400" y="259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拓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37"/>
          <p:cNvSpPr/>
          <p:nvPr/>
        </p:nvSpPr>
        <p:spPr>
          <a:xfrm rot="21360000">
            <a:off x="5693400" y="370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体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38"/>
          <p:cNvSpPr/>
          <p:nvPr/>
        </p:nvSpPr>
        <p:spPr>
          <a:xfrm rot="21360000">
            <a:off x="5860080" y="475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痛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39"/>
          <p:cNvSpPr/>
          <p:nvPr/>
        </p:nvSpPr>
        <p:spPr>
          <a:xfrm rot="21360000">
            <a:off x="5953680" y="5832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效益递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3"/>
          <p:cNvSpPr/>
          <p:nvPr/>
        </p:nvSpPr>
        <p:spPr>
          <a:xfrm>
            <a:off x="979560" y="3605040"/>
            <a:ext cx="106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想象：你的产品要在无尽黑暗里，要被认知，必须像烟花一样，爆得高，而且引爆点不能多，要专注，才能建立更坚固的“护城河”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4"/>
          <p:cNvSpPr/>
          <p:nvPr/>
        </p:nvSpPr>
        <p:spPr>
          <a:xfrm>
            <a:off x="2355840" y="4589640"/>
            <a:ext cx="748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互联网的流量，效益试呈明显的递减，成本会变得更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效益递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3"/>
          <p:cNvSpPr/>
          <p:nvPr/>
        </p:nvSpPr>
        <p:spPr>
          <a:xfrm>
            <a:off x="1150920" y="3429000"/>
            <a:ext cx="106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的爆品境界：把产品爆到产生垄断的效果，让别人学都不好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8"/>
          <p:cNvSpPr/>
          <p:nvPr/>
        </p:nvSpPr>
        <p:spPr>
          <a:xfrm>
            <a:off x="1952640" y="4376880"/>
            <a:ext cx="805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爆品战略的本质就是一年一款产品可以干到</a:t>
            </a:r>
            <a:r>
              <a:rPr b="1" lang="en-US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10</a:t>
            </a: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个亿的方法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 25"/>
          <p:cNvGrpSpPr/>
          <p:nvPr/>
        </p:nvGrpSpPr>
        <p:grpSpPr>
          <a:xfrm>
            <a:off x="4172040" y="1504800"/>
            <a:ext cx="3848040" cy="3848400"/>
            <a:chOff x="4172040" y="1504800"/>
            <a:chExt cx="3848040" cy="3848400"/>
          </a:xfrm>
        </p:grpSpPr>
        <p:sp>
          <p:nvSpPr>
            <p:cNvPr id="798" name="椭圆 11"/>
            <p:cNvSpPr/>
            <p:nvPr/>
          </p:nvSpPr>
          <p:spPr>
            <a:xfrm>
              <a:off x="4172040" y="1504800"/>
              <a:ext cx="3848040" cy="3848400"/>
            </a:xfrm>
            <a:prstGeom prst="ellipse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图片 15" descr=""/>
            <p:cNvPicPr/>
            <p:nvPr/>
          </p:nvPicPr>
          <p:blipFill>
            <a:blip r:embed="rId1"/>
            <a:stretch/>
          </p:blipFill>
          <p:spPr>
            <a:xfrm>
              <a:off x="5454720" y="2348640"/>
              <a:ext cx="1054440" cy="10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文本框 22"/>
          <p:cNvSpPr/>
          <p:nvPr/>
        </p:nvSpPr>
        <p:spPr>
          <a:xfrm>
            <a:off x="4724280" y="3705120"/>
            <a:ext cx="28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产品进行颠覆性微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任意多边形 33"/>
          <p:cNvSpPr/>
          <p:nvPr/>
        </p:nvSpPr>
        <p:spPr>
          <a:xfrm flipH="1">
            <a:off x="3822840" y="1944720"/>
            <a:ext cx="473688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任意多边形 34"/>
          <p:cNvSpPr/>
          <p:nvPr/>
        </p:nvSpPr>
        <p:spPr>
          <a:xfrm flipH="1">
            <a:off x="3290040" y="2870280"/>
            <a:ext cx="473580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35"/>
          <p:cNvSpPr/>
          <p:nvPr/>
        </p:nvSpPr>
        <p:spPr>
          <a:xfrm flipH="1">
            <a:off x="2757600" y="3782880"/>
            <a:ext cx="473688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39"/>
          <p:cNvSpPr/>
          <p:nvPr/>
        </p:nvSpPr>
        <p:spPr>
          <a:xfrm flipH="1">
            <a:off x="-720" y="1944720"/>
            <a:ext cx="2135160" cy="9255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40"/>
          <p:cNvSpPr/>
          <p:nvPr/>
        </p:nvSpPr>
        <p:spPr>
          <a:xfrm flipH="1">
            <a:off x="-720" y="2860560"/>
            <a:ext cx="1638360" cy="9255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41"/>
          <p:cNvSpPr/>
          <p:nvPr/>
        </p:nvSpPr>
        <p:spPr>
          <a:xfrm flipH="1">
            <a:off x="-720" y="3774960"/>
            <a:ext cx="1104840" cy="9273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3"/>
          <p:cNvSpPr/>
          <p:nvPr/>
        </p:nvSpPr>
        <p:spPr>
          <a:xfrm flipH="1">
            <a:off x="4524840" y="203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4"/>
          <p:cNvSpPr/>
          <p:nvPr/>
        </p:nvSpPr>
        <p:spPr>
          <a:xfrm flipH="1">
            <a:off x="4086720" y="2978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5"/>
          <p:cNvSpPr/>
          <p:nvPr/>
        </p:nvSpPr>
        <p:spPr>
          <a:xfrm flipH="1">
            <a:off x="3597480" y="38750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能的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47"/>
          <p:cNvSpPr/>
          <p:nvPr/>
        </p:nvSpPr>
        <p:spPr>
          <a:xfrm>
            <a:off x="2599560" y="2023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b193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8"/>
          <p:cNvSpPr/>
          <p:nvPr/>
        </p:nvSpPr>
        <p:spPr>
          <a:xfrm>
            <a:off x="2083680" y="3019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7280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49"/>
          <p:cNvSpPr/>
          <p:nvPr/>
        </p:nvSpPr>
        <p:spPr>
          <a:xfrm>
            <a:off x="1551960" y="3875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6c84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53" descr=""/>
          <p:cNvPicPr/>
          <p:nvPr/>
        </p:nvPicPr>
        <p:blipFill>
          <a:blip r:embed="rId2"/>
          <a:stretch/>
        </p:blipFill>
        <p:spPr>
          <a:xfrm>
            <a:off x="601560" y="3038400"/>
            <a:ext cx="433440" cy="541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4" descr=""/>
          <p:cNvPicPr/>
          <p:nvPr/>
        </p:nvPicPr>
        <p:blipFill>
          <a:blip r:embed="rId3"/>
          <a:stretch/>
        </p:blipFill>
        <p:spPr>
          <a:xfrm>
            <a:off x="270000" y="396864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5" descr=""/>
          <p:cNvPicPr/>
          <p:nvPr/>
        </p:nvPicPr>
        <p:blipFill>
          <a:blip r:embed="rId4"/>
          <a:stretch/>
        </p:blipFill>
        <p:spPr>
          <a:xfrm>
            <a:off x="731880" y="2147760"/>
            <a:ext cx="460440" cy="460440"/>
          </a:xfrm>
          <a:prstGeom prst="rect">
            <a:avLst/>
          </a:prstGeom>
          <a:ln w="0">
            <a:noFill/>
          </a:ln>
        </p:spPr>
      </p:pic>
      <p:sp>
        <p:nvSpPr>
          <p:cNvPr id="821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平行四边形 1"/>
          <p:cNvSpPr/>
          <p:nvPr/>
        </p:nvSpPr>
        <p:spPr>
          <a:xfrm>
            <a:off x="5738760" y="1943280"/>
            <a:ext cx="1095480" cy="2763720"/>
          </a:xfrm>
          <a:prstGeom prst="parallelogram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红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3"/>
          <p:cNvSpPr/>
          <p:nvPr/>
        </p:nvSpPr>
        <p:spPr>
          <a:xfrm>
            <a:off x="7961400" y="2932200"/>
            <a:ext cx="4360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款是一个局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是一个战略，是一个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2" descr="探百村-logo-标志图形-组合1"/>
          <p:cNvPicPr/>
          <p:nvPr/>
        </p:nvPicPr>
        <p:blipFill>
          <a:blip r:embed="rId5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4"/>
          <p:cNvSpPr/>
          <p:nvPr/>
        </p:nvSpPr>
        <p:spPr>
          <a:xfrm>
            <a:off x="3089160" y="1055520"/>
            <a:ext cx="5816880" cy="5454720"/>
          </a:xfrm>
          <a:prstGeom prst="ellipse">
            <a:avLst/>
          </a:prstGeom>
          <a:noFill/>
          <a:ln w="442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26"/>
          <p:cNvSpPr/>
          <p:nvPr/>
        </p:nvSpPr>
        <p:spPr>
          <a:xfrm>
            <a:off x="5763600" y="342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乐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 6"/>
          <p:cNvGrpSpPr/>
          <p:nvPr/>
        </p:nvGrpSpPr>
        <p:grpSpPr>
          <a:xfrm>
            <a:off x="2346480" y="1216080"/>
            <a:ext cx="2216160" cy="2216160"/>
            <a:chOff x="2346480" y="1216080"/>
            <a:chExt cx="2216160" cy="2216160"/>
          </a:xfrm>
        </p:grpSpPr>
        <p:sp>
          <p:nvSpPr>
            <p:cNvPr id="833" name="椭圆 2"/>
            <p:cNvSpPr/>
            <p:nvPr/>
          </p:nvSpPr>
          <p:spPr>
            <a:xfrm>
              <a:off x="2346480" y="1216080"/>
              <a:ext cx="2216160" cy="22161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文本框 3"/>
            <p:cNvSpPr/>
            <p:nvPr/>
          </p:nvSpPr>
          <p:spPr>
            <a:xfrm>
              <a:off x="2958120" y="2109960"/>
              <a:ext cx="101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酷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土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视频流量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 5"/>
          <p:cNvGrpSpPr/>
          <p:nvPr/>
        </p:nvGrpSpPr>
        <p:grpSpPr>
          <a:xfrm>
            <a:off x="7454880" y="1090440"/>
            <a:ext cx="2252520" cy="2252880"/>
            <a:chOff x="7454880" y="1090440"/>
            <a:chExt cx="2252520" cy="2252880"/>
          </a:xfrm>
        </p:grpSpPr>
        <p:sp>
          <p:nvSpPr>
            <p:cNvPr id="836" name="椭圆 28"/>
            <p:cNvSpPr/>
            <p:nvPr/>
          </p:nvSpPr>
          <p:spPr>
            <a:xfrm>
              <a:off x="7454880" y="1090440"/>
              <a:ext cx="2252520" cy="225288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文本框 30"/>
            <p:cNvSpPr/>
            <p:nvPr/>
          </p:nvSpPr>
          <p:spPr>
            <a:xfrm>
              <a:off x="8247960" y="1986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电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 31"/>
          <p:cNvGrpSpPr/>
          <p:nvPr/>
        </p:nvGrpSpPr>
        <p:grpSpPr>
          <a:xfrm>
            <a:off x="8004240" y="4564080"/>
            <a:ext cx="1990800" cy="1990800"/>
            <a:chOff x="8004240" y="4564080"/>
            <a:chExt cx="1990800" cy="1990800"/>
          </a:xfrm>
        </p:grpSpPr>
        <p:sp>
          <p:nvSpPr>
            <p:cNvPr id="839" name="椭圆 32"/>
            <p:cNvSpPr/>
            <p:nvPr/>
          </p:nvSpPr>
          <p:spPr>
            <a:xfrm>
              <a:off x="8004240" y="4564080"/>
              <a:ext cx="1990800" cy="199080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文本框 33"/>
            <p:cNvSpPr/>
            <p:nvPr/>
          </p:nvSpPr>
          <p:spPr>
            <a:xfrm>
              <a:off x="8663040" y="5356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手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 34"/>
          <p:cNvGrpSpPr/>
          <p:nvPr/>
        </p:nvGrpSpPr>
        <p:grpSpPr>
          <a:xfrm>
            <a:off x="2104920" y="4533840"/>
            <a:ext cx="2051280" cy="2051280"/>
            <a:chOff x="2104920" y="4533840"/>
            <a:chExt cx="2051280" cy="2051280"/>
          </a:xfrm>
        </p:grpSpPr>
        <p:sp>
          <p:nvSpPr>
            <p:cNvPr id="842" name="椭圆 35"/>
            <p:cNvSpPr/>
            <p:nvPr/>
          </p:nvSpPr>
          <p:spPr>
            <a:xfrm>
              <a:off x="2104920" y="4533840"/>
              <a:ext cx="2051280" cy="205128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36"/>
            <p:cNvSpPr/>
            <p:nvPr/>
          </p:nvSpPr>
          <p:spPr>
            <a:xfrm>
              <a:off x="2794680" y="535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汽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4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44"/>
          <p:cNvSpPr/>
          <p:nvPr/>
        </p:nvSpPr>
        <p:spPr>
          <a:xfrm>
            <a:off x="5027040" y="4730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6c84"/>
                </a:solidFill>
                <a:latin typeface="微软雅黑"/>
                <a:ea typeface="微软雅黑"/>
              </a:rPr>
              <a:t>从生态链着手，跨界等于链接，深纬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23"/>
          <p:cNvGrpSpPr/>
          <p:nvPr/>
        </p:nvGrpSpPr>
        <p:grpSpPr>
          <a:xfrm>
            <a:off x="2749680" y="4797360"/>
            <a:ext cx="1057320" cy="743040"/>
            <a:chOff x="2749680" y="4797360"/>
            <a:chExt cx="1057320" cy="743040"/>
          </a:xfrm>
        </p:grpSpPr>
        <p:sp>
          <p:nvSpPr>
            <p:cNvPr id="851" name="矩形 24"/>
            <p:cNvSpPr/>
            <p:nvPr/>
          </p:nvSpPr>
          <p:spPr>
            <a:xfrm>
              <a:off x="2749680" y="4797360"/>
              <a:ext cx="380160" cy="73080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5"/>
            <p:cNvSpPr/>
            <p:nvPr/>
          </p:nvSpPr>
          <p:spPr>
            <a:xfrm>
              <a:off x="3705840" y="4797360"/>
              <a:ext cx="101160" cy="74304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6"/>
            <p:cNvSpPr/>
            <p:nvPr/>
          </p:nvSpPr>
          <p:spPr>
            <a:xfrm>
              <a:off x="3500640" y="4797360"/>
              <a:ext cx="177480" cy="74304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7"/>
            <p:cNvSpPr/>
            <p:nvPr/>
          </p:nvSpPr>
          <p:spPr>
            <a:xfrm>
              <a:off x="3174120" y="4797360"/>
              <a:ext cx="296640" cy="74304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28"/>
          <p:cNvGrpSpPr/>
          <p:nvPr/>
        </p:nvGrpSpPr>
        <p:grpSpPr>
          <a:xfrm>
            <a:off x="9019800" y="4797360"/>
            <a:ext cx="1038600" cy="743040"/>
            <a:chOff x="9019800" y="4797360"/>
            <a:chExt cx="1038600" cy="743040"/>
          </a:xfrm>
        </p:grpSpPr>
        <p:sp>
          <p:nvSpPr>
            <p:cNvPr id="856" name="矩形 29"/>
            <p:cNvSpPr/>
            <p:nvPr/>
          </p:nvSpPr>
          <p:spPr>
            <a:xfrm flipH="1">
              <a:off x="9678960" y="4797360"/>
              <a:ext cx="379440" cy="73080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30"/>
            <p:cNvSpPr/>
            <p:nvPr/>
          </p:nvSpPr>
          <p:spPr>
            <a:xfrm flipH="1">
              <a:off x="9019440" y="4797360"/>
              <a:ext cx="101160" cy="74304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31"/>
            <p:cNvSpPr/>
            <p:nvPr/>
          </p:nvSpPr>
          <p:spPr>
            <a:xfrm flipH="1">
              <a:off x="9148680" y="4797360"/>
              <a:ext cx="177120" cy="74304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32"/>
            <p:cNvSpPr/>
            <p:nvPr/>
          </p:nvSpPr>
          <p:spPr>
            <a:xfrm flipH="1">
              <a:off x="9355320" y="4797360"/>
              <a:ext cx="295920" cy="74304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虚尾箭头 3"/>
          <p:cNvSpPr/>
          <p:nvPr/>
        </p:nvSpPr>
        <p:spPr>
          <a:xfrm>
            <a:off x="1995480" y="3213000"/>
            <a:ext cx="8874000" cy="941400"/>
          </a:xfrm>
          <a:custGeom>
            <a:avLst/>
            <a:gdLst/>
            <a:ahLst/>
            <a:rect l="l" t="t" r="r" b="b"/>
            <a:pathLst>
              <a:path w="8874125" h="941387">
                <a:moveTo>
                  <a:pt x="0" y="235346"/>
                </a:moveTo>
                <a:lnTo>
                  <a:pt x="29418" y="235346"/>
                </a:lnTo>
                <a:lnTo>
                  <a:pt x="29418" y="706040"/>
                </a:lnTo>
                <a:lnTo>
                  <a:pt x="0" y="706040"/>
                </a:lnTo>
                <a:close/>
                <a:moveTo>
                  <a:pt x="58836" y="235346"/>
                </a:moveTo>
                <a:lnTo>
                  <a:pt x="117673" y="235346"/>
                </a:lnTo>
                <a:lnTo>
                  <a:pt x="117673" y="706040"/>
                </a:lnTo>
                <a:lnTo>
                  <a:pt x="58836" y="706040"/>
                </a:lnTo>
                <a:close/>
                <a:moveTo>
                  <a:pt x="147091" y="235346"/>
                </a:moveTo>
                <a:lnTo>
                  <a:pt x="8403431" y="235346"/>
                </a:lnTo>
                <a:lnTo>
                  <a:pt x="8403431" y="0"/>
                </a:lnTo>
                <a:lnTo>
                  <a:pt x="8874125" y="470693"/>
                </a:lnTo>
                <a:lnTo>
                  <a:pt x="8403431" y="941387"/>
                </a:lnTo>
                <a:lnTo>
                  <a:pt x="8403431" y="706040"/>
                </a:lnTo>
                <a:lnTo>
                  <a:pt x="147091" y="70604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"/>
          <p:cNvSpPr/>
          <p:nvPr/>
        </p:nvSpPr>
        <p:spPr>
          <a:xfrm>
            <a:off x="3667320" y="278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传统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厂、制造、能配比、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27"/>
          <p:cNvSpPr/>
          <p:nvPr/>
        </p:nvSpPr>
        <p:spPr>
          <a:xfrm>
            <a:off x="6987600" y="278280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米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年一款、线上销售，羊毛出在猪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4"/>
          <p:cNvSpPr/>
          <p:nvPr/>
        </p:nvSpPr>
        <p:spPr>
          <a:xfrm>
            <a:off x="4949640" y="525132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6c84"/>
                </a:solidFill>
                <a:latin typeface="微软雅黑"/>
                <a:ea typeface="微软雅黑"/>
              </a:rPr>
              <a:t>高频打低频是铁律，低频行业如何找爆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10"/>
          <p:cNvSpPr/>
          <p:nvPr/>
        </p:nvSpPr>
        <p:spPr>
          <a:xfrm>
            <a:off x="4780080" y="1411200"/>
            <a:ext cx="2631960" cy="2632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17" descr=""/>
          <p:cNvPicPr/>
          <p:nvPr/>
        </p:nvPicPr>
        <p:blipFill>
          <a:blip r:embed="rId1"/>
          <a:stretch/>
        </p:blipFill>
        <p:spPr>
          <a:xfrm>
            <a:off x="5678640" y="1798560"/>
            <a:ext cx="834840" cy="601920"/>
          </a:xfrm>
          <a:prstGeom prst="rect">
            <a:avLst/>
          </a:prstGeom>
          <a:ln w="0">
            <a:noFill/>
          </a:ln>
        </p:spPr>
      </p:pic>
      <p:sp>
        <p:nvSpPr>
          <p:cNvPr id="872" name="文本框 22"/>
          <p:cNvSpPr/>
          <p:nvPr/>
        </p:nvSpPr>
        <p:spPr>
          <a:xfrm>
            <a:off x="4967280" y="2513160"/>
            <a:ext cx="22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频跟低频背后是跟用户的强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"/>
          <p:cNvSpPr/>
          <p:nvPr/>
        </p:nvSpPr>
        <p:spPr>
          <a:xfrm>
            <a:off x="3534840" y="432288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跟用户的联系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传统企业的微信公众号，提升用户的高频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7"/>
          <p:cNvSpPr/>
          <p:nvPr/>
        </p:nvSpPr>
        <p:spPr>
          <a:xfrm>
            <a:off x="7423200" y="184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11"/>
          <p:cNvSpPr/>
          <p:nvPr/>
        </p:nvSpPr>
        <p:spPr>
          <a:xfrm>
            <a:off x="5422320" y="3084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是一切产品的基础和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2"/>
          <p:cNvSpPr/>
          <p:nvPr/>
        </p:nvSpPr>
        <p:spPr>
          <a:xfrm>
            <a:off x="5472720" y="310032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做爆品必须遵循的第一公里：</a:t>
            </a: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找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12"/>
          <p:cNvSpPr/>
          <p:nvPr/>
        </p:nvSpPr>
        <p:spPr>
          <a:xfrm>
            <a:off x="3070800" y="429264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痛点：用户最痛的需求点，是用户最想解决的需求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8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等腰三角形 12"/>
          <p:cNvSpPr/>
          <p:nvPr/>
        </p:nvSpPr>
        <p:spPr>
          <a:xfrm rot="5400000">
            <a:off x="3550680" y="2168280"/>
            <a:ext cx="2108160" cy="1816200"/>
          </a:xfrm>
          <a:prstGeom prst="triangle">
            <a:avLst>
              <a:gd name="adj" fmla="val 50000"/>
            </a:avLst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等腰三角形 14"/>
          <p:cNvSpPr/>
          <p:nvPr/>
        </p:nvSpPr>
        <p:spPr>
          <a:xfrm rot="5400000">
            <a:off x="7576560" y="2166840"/>
            <a:ext cx="2108160" cy="1816200"/>
          </a:xfrm>
          <a:prstGeom prst="triangle">
            <a:avLst>
              <a:gd name="adj" fmla="val 5000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图片 16" descr=""/>
          <p:cNvPicPr/>
          <p:nvPr/>
        </p:nvPicPr>
        <p:blipFill>
          <a:blip r:embed="rId2"/>
          <a:stretch/>
        </p:blipFill>
        <p:spPr>
          <a:xfrm>
            <a:off x="8062920" y="2759040"/>
            <a:ext cx="569880" cy="54144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19" descr=""/>
          <p:cNvPicPr/>
          <p:nvPr/>
        </p:nvPicPr>
        <p:blipFill>
          <a:blip r:embed="rId3"/>
          <a:stretch/>
        </p:blipFill>
        <p:spPr>
          <a:xfrm>
            <a:off x="3989520" y="277488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906" name="文本框 21"/>
          <p:cNvSpPr/>
          <p:nvPr/>
        </p:nvSpPr>
        <p:spPr>
          <a:xfrm flipH="1">
            <a:off x="7939800" y="433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找一级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23"/>
          <p:cNvSpPr/>
          <p:nvPr/>
        </p:nvSpPr>
        <p:spPr>
          <a:xfrm flipH="1">
            <a:off x="3579840" y="433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找风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6"/>
          <p:cNvSpPr/>
          <p:nvPr/>
        </p:nvSpPr>
        <p:spPr>
          <a:xfrm>
            <a:off x="4713840" y="11923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两大核心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2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7"/>
          <p:cNvSpPr/>
          <p:nvPr/>
        </p:nvSpPr>
        <p:spPr>
          <a:xfrm>
            <a:off x="7312320" y="1846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拓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1"/>
          <p:cNvSpPr/>
          <p:nvPr/>
        </p:nvSpPr>
        <p:spPr>
          <a:xfrm>
            <a:off x="1150920" y="192708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风口猪都能飞起来，其实打造一款爆品，首先就要找到我们的风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经常讲风口指数，就是你的产品风口指数怎么样。什么叫风口呢？风口怎么找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就是国民性痛点。如果你的痛点够大够肥，你就有更多成功的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"/>
          <p:cNvSpPr/>
          <p:nvPr/>
        </p:nvSpPr>
        <p:spPr>
          <a:xfrm>
            <a:off x="4024080" y="2930400"/>
            <a:ext cx="37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国民性痛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2"/>
          <p:cNvSpPr/>
          <p:nvPr/>
        </p:nvSpPr>
        <p:spPr>
          <a:xfrm>
            <a:off x="4325040" y="50832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键词：三聚氰胺 九阳豆浆机 风口指数直线飙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3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任意多边形 38"/>
          <p:cNvSpPr/>
          <p:nvPr/>
        </p:nvSpPr>
        <p:spPr>
          <a:xfrm flipH="1">
            <a:off x="4738680" y="2006640"/>
            <a:ext cx="387360" cy="116352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任意多边形 26"/>
          <p:cNvSpPr/>
          <p:nvPr/>
        </p:nvSpPr>
        <p:spPr>
          <a:xfrm>
            <a:off x="4098960" y="201132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343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任意多边形 27"/>
          <p:cNvSpPr/>
          <p:nvPr/>
        </p:nvSpPr>
        <p:spPr>
          <a:xfrm>
            <a:off x="4092480" y="283068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ac4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任意多边形 28"/>
          <p:cNvSpPr/>
          <p:nvPr/>
        </p:nvSpPr>
        <p:spPr>
          <a:xfrm>
            <a:off x="4095720" y="3630600"/>
            <a:ext cx="638280" cy="1989000"/>
          </a:xfrm>
          <a:custGeom>
            <a:avLst/>
            <a:gdLst/>
            <a:ahLst/>
            <a:rect l="l" t="t" r="r" b="b"/>
            <a:pathLst>
              <a:path w="593997" h="1848987">
                <a:moveTo>
                  <a:pt x="593997" y="0"/>
                </a:moveTo>
                <a:lnTo>
                  <a:pt x="593997" y="1542975"/>
                </a:lnTo>
                <a:lnTo>
                  <a:pt x="582533" y="1548906"/>
                </a:lnTo>
                <a:lnTo>
                  <a:pt x="582533" y="1547588"/>
                </a:lnTo>
                <a:lnTo>
                  <a:pt x="0" y="1848987"/>
                </a:lnTo>
                <a:lnTo>
                  <a:pt x="0" y="312613"/>
                </a:lnTo>
                <a:lnTo>
                  <a:pt x="582533" y="11214"/>
                </a:lnTo>
                <a:lnTo>
                  <a:pt x="582533" y="5932"/>
                </a:lnTo>
                <a:lnTo>
                  <a:pt x="593997" y="0"/>
                </a:lnTo>
                <a:close/>
              </a:path>
            </a:pathLst>
          </a:custGeom>
          <a:solidFill>
            <a:srgbClr val="4c4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圆角矩形 29"/>
          <p:cNvSpPr/>
          <p:nvPr/>
        </p:nvSpPr>
        <p:spPr>
          <a:xfrm>
            <a:off x="1708200" y="1546200"/>
            <a:ext cx="2514600" cy="460692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606920"/>
              <a:gd name="textAreaBottom" fmla="*/ 4484160 h 4606920"/>
            </a:gdLst>
            <a:ahLst/>
            <a:rect l="textAreaLeft" t="textAreaTop" r="textAreaRight" b="textAreaBottom"/>
            <a:pathLst>
              <a:path w="21600" h="39570">
                <a:moveTo>
                  <a:pt x="3600" y="0"/>
                </a:moveTo>
                <a:arcTo wR="3600" hR="3600" stAng="16200000" swAng="-5400000"/>
                <a:lnTo>
                  <a:pt x="0" y="35970"/>
                </a:lnTo>
                <a:arcTo wR="3600" hR="3600" stAng="10800000" swAng="-5400000"/>
                <a:lnTo>
                  <a:pt x="18000" y="39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30"/>
          <p:cNvSpPr/>
          <p:nvPr/>
        </p:nvSpPr>
        <p:spPr>
          <a:xfrm>
            <a:off x="1832040" y="2286000"/>
            <a:ext cx="2268360" cy="82872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31"/>
          <p:cNvSpPr/>
          <p:nvPr/>
        </p:nvSpPr>
        <p:spPr>
          <a:xfrm>
            <a:off x="1832040" y="3114720"/>
            <a:ext cx="2268360" cy="82872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32"/>
          <p:cNvSpPr/>
          <p:nvPr/>
        </p:nvSpPr>
        <p:spPr>
          <a:xfrm>
            <a:off x="1832040" y="3943440"/>
            <a:ext cx="2268360" cy="163656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圆角矩形 33"/>
          <p:cNvSpPr/>
          <p:nvPr/>
        </p:nvSpPr>
        <p:spPr>
          <a:xfrm>
            <a:off x="2670120" y="1863720"/>
            <a:ext cx="592200" cy="4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34"/>
          <p:cNvSpPr/>
          <p:nvPr/>
        </p:nvSpPr>
        <p:spPr>
          <a:xfrm>
            <a:off x="2412720" y="240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统企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35"/>
          <p:cNvSpPr/>
          <p:nvPr/>
        </p:nvSpPr>
        <p:spPr>
          <a:xfrm>
            <a:off x="2248560" y="3757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37"/>
          <p:cNvSpPr/>
          <p:nvPr/>
        </p:nvSpPr>
        <p:spPr>
          <a:xfrm>
            <a:off x="2835360" y="5719680"/>
            <a:ext cx="261720" cy="262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任意多边形 39"/>
          <p:cNvSpPr/>
          <p:nvPr/>
        </p:nvSpPr>
        <p:spPr>
          <a:xfrm>
            <a:off x="5126040" y="200988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343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41"/>
          <p:cNvSpPr/>
          <p:nvPr/>
        </p:nvSpPr>
        <p:spPr>
          <a:xfrm>
            <a:off x="5105520" y="2811600"/>
            <a:ext cx="668160" cy="128268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ac4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42"/>
          <p:cNvSpPr/>
          <p:nvPr/>
        </p:nvSpPr>
        <p:spPr>
          <a:xfrm>
            <a:off x="4730760" y="3629160"/>
            <a:ext cx="393840" cy="2001600"/>
          </a:xfrm>
          <a:custGeom>
            <a:avLst/>
            <a:gdLst/>
            <a:ahLst/>
            <a:rect l="l" t="t" r="r" b="b"/>
            <a:pathLst>
              <a:path w="366467" h="1859919">
                <a:moveTo>
                  <a:pt x="0" y="0"/>
                </a:moveTo>
                <a:lnTo>
                  <a:pt x="6467" y="136"/>
                </a:lnTo>
                <a:lnTo>
                  <a:pt x="6467" y="3765"/>
                </a:lnTo>
                <a:lnTo>
                  <a:pt x="366467" y="312845"/>
                </a:lnTo>
                <a:lnTo>
                  <a:pt x="366467" y="1859919"/>
                </a:lnTo>
                <a:lnTo>
                  <a:pt x="363809" y="1859919"/>
                </a:lnTo>
                <a:lnTo>
                  <a:pt x="7933" y="1554380"/>
                </a:lnTo>
                <a:lnTo>
                  <a:pt x="7933" y="1559036"/>
                </a:lnTo>
                <a:lnTo>
                  <a:pt x="0" y="1552225"/>
                </a:lnTo>
                <a:lnTo>
                  <a:pt x="0" y="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任意多边形 43"/>
          <p:cNvSpPr/>
          <p:nvPr/>
        </p:nvSpPr>
        <p:spPr>
          <a:xfrm>
            <a:off x="5126040" y="3633840"/>
            <a:ext cx="639720" cy="1989000"/>
          </a:xfrm>
          <a:custGeom>
            <a:avLst/>
            <a:gdLst/>
            <a:ahLst/>
            <a:rect l="l" t="t" r="r" b="b"/>
            <a:pathLst>
              <a:path w="593997" h="1848987">
                <a:moveTo>
                  <a:pt x="593997" y="0"/>
                </a:moveTo>
                <a:lnTo>
                  <a:pt x="593997" y="1542975"/>
                </a:lnTo>
                <a:lnTo>
                  <a:pt x="582533" y="1548906"/>
                </a:lnTo>
                <a:lnTo>
                  <a:pt x="582533" y="1547588"/>
                </a:lnTo>
                <a:lnTo>
                  <a:pt x="0" y="1848987"/>
                </a:lnTo>
                <a:lnTo>
                  <a:pt x="0" y="312613"/>
                </a:lnTo>
                <a:lnTo>
                  <a:pt x="582533" y="11214"/>
                </a:lnTo>
                <a:lnTo>
                  <a:pt x="582533" y="5932"/>
                </a:lnTo>
                <a:lnTo>
                  <a:pt x="593997" y="0"/>
                </a:lnTo>
                <a:close/>
              </a:path>
            </a:pathLst>
          </a:custGeom>
          <a:solidFill>
            <a:srgbClr val="4c4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五边形 44"/>
          <p:cNvSpPr/>
          <p:nvPr/>
        </p:nvSpPr>
        <p:spPr>
          <a:xfrm>
            <a:off x="5765760" y="2006640"/>
            <a:ext cx="4176720" cy="81900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五边形 45"/>
          <p:cNvSpPr/>
          <p:nvPr/>
        </p:nvSpPr>
        <p:spPr>
          <a:xfrm>
            <a:off x="5759280" y="2811600"/>
            <a:ext cx="4821480" cy="836640"/>
          </a:xfrm>
          <a:custGeom>
            <a:avLst/>
            <a:gdLst>
              <a:gd name="textAreaLeft" fmla="*/ 0 w 4821480"/>
              <a:gd name="textAreaRight" fmla="*/ 4821840 w 48214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五边形 46"/>
          <p:cNvSpPr/>
          <p:nvPr/>
        </p:nvSpPr>
        <p:spPr>
          <a:xfrm>
            <a:off x="5751360" y="3648240"/>
            <a:ext cx="5759640" cy="16668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47"/>
          <p:cNvSpPr/>
          <p:nvPr/>
        </p:nvSpPr>
        <p:spPr>
          <a:xfrm>
            <a:off x="6349320" y="204300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政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弊端：不确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48"/>
          <p:cNvSpPr/>
          <p:nvPr/>
        </p:nvSpPr>
        <p:spPr>
          <a:xfrm>
            <a:off x="6530760" y="286704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又肥又大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肥代表盈利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代表需求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任意多边形 40"/>
          <p:cNvSpPr/>
          <p:nvPr/>
        </p:nvSpPr>
        <p:spPr>
          <a:xfrm flipH="1">
            <a:off x="4732200" y="2809800"/>
            <a:ext cx="387360" cy="116208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文本框 48"/>
          <p:cNvSpPr/>
          <p:nvPr/>
        </p:nvSpPr>
        <p:spPr>
          <a:xfrm>
            <a:off x="6676920" y="3849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频消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费频率高   婚嫁红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文本框 48"/>
          <p:cNvSpPr/>
          <p:nvPr/>
        </p:nvSpPr>
        <p:spPr>
          <a:xfrm>
            <a:off x="6792120" y="4483080"/>
            <a:ext cx="294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化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标准化生产、制造及运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餐饮团购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打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8"/>
          <p:cNvSpPr/>
          <p:nvPr/>
        </p:nvSpPr>
        <p:spPr>
          <a:xfrm>
            <a:off x="4161240" y="3697200"/>
            <a:ext cx="29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找到≠一定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9"/>
          <p:cNvSpPr/>
          <p:nvPr/>
        </p:nvSpPr>
        <p:spPr>
          <a:xfrm>
            <a:off x="3516840" y="2403360"/>
            <a:ext cx="419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黏住用户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痛点需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71"/>
          <p:cNvGrpSpPr/>
          <p:nvPr/>
        </p:nvGrpSpPr>
        <p:grpSpPr>
          <a:xfrm>
            <a:off x="7800840" y="2566800"/>
            <a:ext cx="1571040" cy="1566360"/>
            <a:chOff x="7800840" y="2566800"/>
            <a:chExt cx="1571040" cy="1566360"/>
          </a:xfrm>
        </p:grpSpPr>
        <p:sp>
          <p:nvSpPr>
            <p:cNvPr id="969" name="任意多边形 18"/>
            <p:cNvSpPr/>
            <p:nvPr/>
          </p:nvSpPr>
          <p:spPr>
            <a:xfrm rot="8100000">
              <a:off x="8588520" y="3393360"/>
              <a:ext cx="801000" cy="28116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五边形 19"/>
            <p:cNvSpPr/>
            <p:nvPr/>
          </p:nvSpPr>
          <p:spPr>
            <a:xfrm rot="2700000">
              <a:off x="8352720" y="2853000"/>
              <a:ext cx="926280" cy="28116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五边形 20"/>
            <p:cNvSpPr/>
            <p:nvPr/>
          </p:nvSpPr>
          <p:spPr>
            <a:xfrm flipH="1" rot="2700000">
              <a:off x="8213400" y="3246120"/>
              <a:ext cx="281160" cy="922320"/>
            </a:xfrm>
            <a:custGeom>
              <a:avLst/>
              <a:gdLst>
                <a:gd name="textAreaLeft" fmla="*/ -360 w 281160"/>
                <a:gd name="textAreaRight" fmla="*/ 281160 w 28116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任意多边形 21"/>
            <p:cNvSpPr/>
            <p:nvPr/>
          </p:nvSpPr>
          <p:spPr>
            <a:xfrm flipH="1" flipV="1" rot="8100000">
              <a:off x="7782840" y="3027960"/>
              <a:ext cx="801000" cy="28116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72"/>
          <p:cNvGrpSpPr/>
          <p:nvPr/>
        </p:nvGrpSpPr>
        <p:grpSpPr>
          <a:xfrm>
            <a:off x="10110960" y="3054960"/>
            <a:ext cx="987120" cy="983520"/>
            <a:chOff x="10110960" y="3054960"/>
            <a:chExt cx="987120" cy="983520"/>
          </a:xfrm>
        </p:grpSpPr>
        <p:sp>
          <p:nvSpPr>
            <p:cNvPr id="974" name="任意多边形 30"/>
            <p:cNvSpPr/>
            <p:nvPr/>
          </p:nvSpPr>
          <p:spPr>
            <a:xfrm rot="8100000">
              <a:off x="10605960" y="3574440"/>
              <a:ext cx="503280" cy="17640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五边形 31"/>
            <p:cNvSpPr/>
            <p:nvPr/>
          </p:nvSpPr>
          <p:spPr>
            <a:xfrm rot="2700000">
              <a:off x="10457280" y="3234600"/>
              <a:ext cx="581760" cy="1767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五边形 32"/>
            <p:cNvSpPr/>
            <p:nvPr/>
          </p:nvSpPr>
          <p:spPr>
            <a:xfrm flipH="1" rot="2700000">
              <a:off x="10369800" y="3481560"/>
              <a:ext cx="176760" cy="578880"/>
            </a:xfrm>
            <a:custGeom>
              <a:avLst/>
              <a:gdLst>
                <a:gd name="textAreaLeft" fmla="*/ -360 w 176760"/>
                <a:gd name="textAreaRight" fmla="*/ 176760 w 17676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33"/>
            <p:cNvSpPr/>
            <p:nvPr/>
          </p:nvSpPr>
          <p:spPr>
            <a:xfrm flipH="1" flipV="1" rot="8100000">
              <a:off x="10099440" y="3344760"/>
              <a:ext cx="503640" cy="17640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组合 66"/>
          <p:cNvGrpSpPr/>
          <p:nvPr/>
        </p:nvGrpSpPr>
        <p:grpSpPr>
          <a:xfrm>
            <a:off x="1083960" y="1113480"/>
            <a:ext cx="2979000" cy="2965680"/>
            <a:chOff x="1083960" y="1113480"/>
            <a:chExt cx="2979000" cy="2965680"/>
          </a:xfrm>
        </p:grpSpPr>
        <p:sp>
          <p:nvSpPr>
            <p:cNvPr id="979" name="任意多边形 46"/>
            <p:cNvSpPr/>
            <p:nvPr/>
          </p:nvSpPr>
          <p:spPr>
            <a:xfrm rot="8100000">
              <a:off x="2575440" y="2679120"/>
              <a:ext cx="151596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五边形 47"/>
            <p:cNvSpPr/>
            <p:nvPr/>
          </p:nvSpPr>
          <p:spPr>
            <a:xfrm rot="2700000">
              <a:off x="2129040" y="1655280"/>
              <a:ext cx="1753560" cy="532080"/>
            </a:xfrm>
            <a:custGeom>
              <a:avLst/>
              <a:gdLst>
                <a:gd name="textAreaLeft" fmla="*/ 0 w 1753560"/>
                <a:gd name="textAreaRight" fmla="*/ 1753920 w 1753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五边形 48"/>
            <p:cNvSpPr/>
            <p:nvPr/>
          </p:nvSpPr>
          <p:spPr>
            <a:xfrm flipH="1" rot="2700000">
              <a:off x="1864080" y="2400480"/>
              <a:ext cx="532080" cy="1745280"/>
            </a:xfrm>
            <a:custGeom>
              <a:avLst/>
              <a:gdLst>
                <a:gd name="textAreaLeft" fmla="*/ 360 w 532080"/>
                <a:gd name="textAreaRight" fmla="*/ 532800 w 53208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9"/>
            <p:cNvSpPr/>
            <p:nvPr/>
          </p:nvSpPr>
          <p:spPr>
            <a:xfrm flipH="1" flipV="1" rot="8100000">
              <a:off x="1049400" y="1987920"/>
              <a:ext cx="151632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2"/>
            <p:cNvSpPr/>
            <p:nvPr/>
          </p:nvSpPr>
          <p:spPr>
            <a:xfrm rot="8100000">
              <a:off x="2580840" y="2679840"/>
              <a:ext cx="151596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五边形 43"/>
            <p:cNvSpPr/>
            <p:nvPr/>
          </p:nvSpPr>
          <p:spPr>
            <a:xfrm rot="2700000">
              <a:off x="2134440" y="1656000"/>
              <a:ext cx="1753560" cy="532080"/>
            </a:xfrm>
            <a:custGeom>
              <a:avLst/>
              <a:gdLst>
                <a:gd name="textAreaLeft" fmla="*/ 0 w 1753560"/>
                <a:gd name="textAreaRight" fmla="*/ 1753920 w 1753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五边形 44"/>
            <p:cNvSpPr/>
            <p:nvPr/>
          </p:nvSpPr>
          <p:spPr>
            <a:xfrm flipH="1" rot="2700000">
              <a:off x="1869480" y="2401200"/>
              <a:ext cx="532080" cy="1745280"/>
            </a:xfrm>
            <a:custGeom>
              <a:avLst/>
              <a:gdLst>
                <a:gd name="textAreaLeft" fmla="*/ 360 w 532080"/>
                <a:gd name="textAreaRight" fmla="*/ 532800 w 53208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45"/>
            <p:cNvSpPr/>
            <p:nvPr/>
          </p:nvSpPr>
          <p:spPr>
            <a:xfrm flipH="1" flipV="1" rot="8100000">
              <a:off x="1054440" y="1988640"/>
              <a:ext cx="151632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70"/>
          <p:cNvGrpSpPr/>
          <p:nvPr/>
        </p:nvGrpSpPr>
        <p:grpSpPr>
          <a:xfrm>
            <a:off x="4909320" y="1899360"/>
            <a:ext cx="2168280" cy="2161800"/>
            <a:chOff x="4909320" y="1899360"/>
            <a:chExt cx="2168280" cy="2161800"/>
          </a:xfrm>
        </p:grpSpPr>
        <p:sp>
          <p:nvSpPr>
            <p:cNvPr id="988" name="任意多边形 58"/>
            <p:cNvSpPr/>
            <p:nvPr/>
          </p:nvSpPr>
          <p:spPr>
            <a:xfrm rot="8100000">
              <a:off x="5996520" y="3040920"/>
              <a:ext cx="1105560" cy="388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五边形 59"/>
            <p:cNvSpPr/>
            <p:nvPr/>
          </p:nvSpPr>
          <p:spPr>
            <a:xfrm rot="2700000">
              <a:off x="5671080" y="2294280"/>
              <a:ext cx="1278360" cy="388080"/>
            </a:xfrm>
            <a:custGeom>
              <a:avLst/>
              <a:gdLst>
                <a:gd name="textAreaLeft" fmla="*/ 0 w 1278360"/>
                <a:gd name="textAreaRight" fmla="*/ 1278720 w 12783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五边形 60"/>
            <p:cNvSpPr/>
            <p:nvPr/>
          </p:nvSpPr>
          <p:spPr>
            <a:xfrm flipH="1" rot="2700000">
              <a:off x="5478120" y="2837520"/>
              <a:ext cx="388080" cy="1272600"/>
            </a:xfrm>
            <a:custGeom>
              <a:avLst/>
              <a:gdLst>
                <a:gd name="textAreaLeft" fmla="*/ 360 w 388080"/>
                <a:gd name="textAreaRight" fmla="*/ 388800 w 388080"/>
                <a:gd name="textAreaTop" fmla="*/ 0 h 1272600"/>
                <a:gd name="textAreaBottom" fmla="*/ 1272960 h 127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61"/>
            <p:cNvSpPr/>
            <p:nvPr/>
          </p:nvSpPr>
          <p:spPr>
            <a:xfrm flipH="1" flipV="1" rot="8100000">
              <a:off x="4884120" y="2537640"/>
              <a:ext cx="1105920" cy="388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文本框 34"/>
          <p:cNvSpPr/>
          <p:nvPr/>
        </p:nvSpPr>
        <p:spPr>
          <a:xfrm>
            <a:off x="10145520" y="43592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b193"/>
                </a:solidFill>
                <a:latin typeface="微软雅黑"/>
                <a:ea typeface="微软雅黑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35"/>
          <p:cNvSpPr/>
          <p:nvPr/>
        </p:nvSpPr>
        <p:spPr>
          <a:xfrm>
            <a:off x="7968600" y="426420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7280"/>
                </a:solidFill>
                <a:latin typeface="微软雅黑"/>
                <a:ea typeface="微软雅黑"/>
              </a:rPr>
              <a:t>4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36"/>
          <p:cNvSpPr/>
          <p:nvPr/>
        </p:nvSpPr>
        <p:spPr>
          <a:xfrm>
            <a:off x="5358960" y="427824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37"/>
          <p:cNvSpPr/>
          <p:nvPr/>
        </p:nvSpPr>
        <p:spPr>
          <a:xfrm>
            <a:off x="1743120" y="416880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c5b7b"/>
                </a:solidFill>
                <a:latin typeface="微软雅黑"/>
                <a:ea typeface="微软雅黑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文本框 64"/>
          <p:cNvSpPr/>
          <p:nvPr/>
        </p:nvSpPr>
        <p:spPr>
          <a:xfrm>
            <a:off x="2328120" y="50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痛点是用户最痛需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39"/>
          <p:cNvSpPr/>
          <p:nvPr/>
        </p:nvSpPr>
        <p:spPr>
          <a:xfrm>
            <a:off x="7293600" y="1119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找一级痛点，不是二三四五级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1"/>
          <p:cNvSpPr/>
          <p:nvPr/>
        </p:nvSpPr>
        <p:spPr>
          <a:xfrm>
            <a:off x="8165880" y="5092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伪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1"/>
          <p:cNvSpPr/>
          <p:nvPr/>
        </p:nvSpPr>
        <p:spPr>
          <a:xfrm>
            <a:off x="4342320" y="58579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键词：白加黑   云南白药 消炎  小米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8"/>
          <p:cNvSpPr/>
          <p:nvPr/>
        </p:nvSpPr>
        <p:spPr>
          <a:xfrm>
            <a:off x="5495040" y="34336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怎么样找到用户一级痛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5220720" y="2114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听骂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10"/>
          <p:cNvSpPr/>
          <p:nvPr/>
        </p:nvSpPr>
        <p:spPr>
          <a:xfrm>
            <a:off x="860400" y="1338120"/>
            <a:ext cx="4727520" cy="252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1"/>
          <p:cNvSpPr/>
          <p:nvPr/>
        </p:nvSpPr>
        <p:spPr>
          <a:xfrm>
            <a:off x="6621480" y="1338120"/>
            <a:ext cx="4726080" cy="252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7"/>
          <p:cNvGrpSpPr/>
          <p:nvPr/>
        </p:nvGrpSpPr>
        <p:grpSpPr>
          <a:xfrm>
            <a:off x="860400" y="3922560"/>
            <a:ext cx="4727520" cy="696600"/>
            <a:chOff x="860400" y="3922560"/>
            <a:chExt cx="4727520" cy="696600"/>
          </a:xfrm>
        </p:grpSpPr>
        <p:sp>
          <p:nvSpPr>
            <p:cNvPr id="1017" name="矩形 12"/>
            <p:cNvSpPr/>
            <p:nvPr/>
          </p:nvSpPr>
          <p:spPr>
            <a:xfrm rot="16200000">
              <a:off x="3135960" y="1864800"/>
              <a:ext cx="176040" cy="472752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13"/>
            <p:cNvSpPr/>
            <p:nvPr/>
          </p:nvSpPr>
          <p:spPr>
            <a:xfrm rot="16200000">
              <a:off x="3180240" y="1694520"/>
              <a:ext cx="87840" cy="472752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4"/>
            <p:cNvSpPr/>
            <p:nvPr/>
          </p:nvSpPr>
          <p:spPr>
            <a:xfrm rot="16200000">
              <a:off x="3197880" y="1585080"/>
              <a:ext cx="52560" cy="472752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5"/>
            <p:cNvSpPr/>
            <p:nvPr/>
          </p:nvSpPr>
          <p:spPr>
            <a:xfrm rot="16200000">
              <a:off x="3092040" y="2123280"/>
              <a:ext cx="263880" cy="472752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28"/>
          <p:cNvGrpSpPr/>
          <p:nvPr/>
        </p:nvGrpSpPr>
        <p:grpSpPr>
          <a:xfrm>
            <a:off x="6621480" y="3922560"/>
            <a:ext cx="4726080" cy="696600"/>
            <a:chOff x="6621480" y="3922560"/>
            <a:chExt cx="4726080" cy="696600"/>
          </a:xfrm>
        </p:grpSpPr>
        <p:sp>
          <p:nvSpPr>
            <p:cNvPr id="1022" name="矩形 23"/>
            <p:cNvSpPr/>
            <p:nvPr/>
          </p:nvSpPr>
          <p:spPr>
            <a:xfrm rot="16200000">
              <a:off x="8896320" y="1865520"/>
              <a:ext cx="176040" cy="472608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24"/>
            <p:cNvSpPr/>
            <p:nvPr/>
          </p:nvSpPr>
          <p:spPr>
            <a:xfrm rot="16200000">
              <a:off x="8940600" y="1695240"/>
              <a:ext cx="87840" cy="472608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25"/>
            <p:cNvSpPr/>
            <p:nvPr/>
          </p:nvSpPr>
          <p:spPr>
            <a:xfrm rot="16200000">
              <a:off x="8958240" y="1585800"/>
              <a:ext cx="52560" cy="472608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26"/>
            <p:cNvSpPr/>
            <p:nvPr/>
          </p:nvSpPr>
          <p:spPr>
            <a:xfrm rot="16200000">
              <a:off x="8852400" y="2124000"/>
              <a:ext cx="263880" cy="472608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文本框 29"/>
          <p:cNvSpPr/>
          <p:nvPr/>
        </p:nvSpPr>
        <p:spPr>
          <a:xfrm>
            <a:off x="1876680" y="4813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茶：怕上火＞解油腻＞老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圆角矩形 1"/>
          <p:cNvSpPr/>
          <p:nvPr/>
        </p:nvSpPr>
        <p:spPr>
          <a:xfrm>
            <a:off x="1801800" y="2035080"/>
            <a:ext cx="2665440" cy="1347840"/>
          </a:xfrm>
          <a:prstGeom prst="roundRect">
            <a:avLst>
              <a:gd name="adj" fmla="val 16667"/>
            </a:avLst>
          </a:pr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2"/>
          <p:cNvSpPr/>
          <p:nvPr/>
        </p:nvSpPr>
        <p:spPr>
          <a:xfrm>
            <a:off x="2724120" y="244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伪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圆角矩形 23"/>
          <p:cNvSpPr/>
          <p:nvPr/>
        </p:nvSpPr>
        <p:spPr>
          <a:xfrm>
            <a:off x="7651800" y="2052720"/>
            <a:ext cx="2665440" cy="1346040"/>
          </a:xfrm>
          <a:prstGeom prst="roundRect">
            <a:avLst>
              <a:gd name="adj" fmla="val 16667"/>
            </a:avLst>
          </a:pr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24"/>
          <p:cNvSpPr/>
          <p:nvPr/>
        </p:nvSpPr>
        <p:spPr>
          <a:xfrm>
            <a:off x="8646480" y="2448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痛点用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29"/>
          <p:cNvSpPr/>
          <p:nvPr/>
        </p:nvSpPr>
        <p:spPr>
          <a:xfrm>
            <a:off x="6226200" y="4842000"/>
            <a:ext cx="61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痛点不一，多重痛点产品撬动重叠用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图片 3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0"/>
          <p:cNvSpPr/>
          <p:nvPr/>
        </p:nvSpPr>
        <p:spPr>
          <a:xfrm>
            <a:off x="3117960" y="31305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针对用户痛点，搞定的人越多，痛点越深，越痛，用户愿意消费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17"/>
          <p:cNvSpPr/>
          <p:nvPr/>
        </p:nvSpPr>
        <p:spPr>
          <a:xfrm>
            <a:off x="7423200" y="184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0"/>
          <p:cNvSpPr/>
          <p:nvPr/>
        </p:nvSpPr>
        <p:spPr>
          <a:xfrm>
            <a:off x="4186800" y="2114640"/>
            <a:ext cx="44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如何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里的深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7"/>
          <p:cNvSpPr/>
          <p:nvPr/>
        </p:nvSpPr>
        <p:spPr>
          <a:xfrm>
            <a:off x="1660680" y="3919680"/>
            <a:ext cx="31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米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8"/>
          <p:cNvSpPr/>
          <p:nvPr/>
        </p:nvSpPr>
        <p:spPr>
          <a:xfrm>
            <a:off x="7387920" y="391968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里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"/>
          <p:cNvSpPr/>
          <p:nvPr/>
        </p:nvSpPr>
        <p:spPr>
          <a:xfrm>
            <a:off x="2737800" y="468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渠道为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11"/>
          <p:cNvSpPr/>
          <p:nvPr/>
        </p:nvSpPr>
        <p:spPr>
          <a:xfrm>
            <a:off x="8571960" y="468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口碑为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1" descr="u=2538588592,2251401514&amp;fm=26&amp;gp=0.jpg"/>
          <p:cNvPicPr/>
          <p:nvPr/>
        </p:nvPicPr>
        <p:blipFill>
          <a:blip r:embed="rId1"/>
          <a:stretch/>
        </p:blipFill>
        <p:spPr>
          <a:xfrm>
            <a:off x="574560" y="1146240"/>
            <a:ext cx="11042640" cy="480996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2"/>
          <p:cNvSpPr/>
          <p:nvPr/>
        </p:nvSpPr>
        <p:spPr>
          <a:xfrm>
            <a:off x="4602960" y="256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的极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3"/>
          <p:cNvSpPr/>
          <p:nvPr/>
        </p:nvSpPr>
        <p:spPr>
          <a:xfrm>
            <a:off x="3778920" y="38847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口碑！这种口碑的背后就是超预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任意多边形 47"/>
          <p:cNvSpPr/>
          <p:nvPr/>
        </p:nvSpPr>
        <p:spPr>
          <a:xfrm flipH="1" rot="21480000">
            <a:off x="3038400" y="2651040"/>
            <a:ext cx="1901880" cy="1133640"/>
          </a:xfrm>
          <a:custGeom>
            <a:avLst/>
            <a:gdLst/>
            <a:ahLst/>
            <a:rect l="l" t="t" r="r" b="b"/>
            <a:pathLst>
              <a:path w="2262142" h="1396256">
                <a:moveTo>
                  <a:pt x="0" y="0"/>
                </a:moveTo>
                <a:lnTo>
                  <a:pt x="74770" y="1396256"/>
                </a:lnTo>
                <a:lnTo>
                  <a:pt x="2262142" y="1396256"/>
                </a:lnTo>
                <a:lnTo>
                  <a:pt x="0" y="0"/>
                </a:lnTo>
                <a:close/>
              </a:path>
            </a:pathLst>
          </a:custGeom>
          <a:solidFill>
            <a:srgbClr val="f34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任意多边形 51"/>
          <p:cNvSpPr/>
          <p:nvPr/>
        </p:nvSpPr>
        <p:spPr>
          <a:xfrm>
            <a:off x="4896000" y="2625840"/>
            <a:ext cx="1428480" cy="113328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任意多边形 63"/>
          <p:cNvSpPr/>
          <p:nvPr/>
        </p:nvSpPr>
        <p:spPr>
          <a:xfrm flipH="1" flipV="1" rot="120000">
            <a:off x="3037320" y="3841200"/>
            <a:ext cx="1901880" cy="1128600"/>
          </a:xfrm>
          <a:custGeom>
            <a:avLst/>
            <a:gdLst/>
            <a:ahLst/>
            <a:rect l="l" t="t" r="r" b="b"/>
            <a:pathLst>
              <a:path w="1901961" h="1128526">
                <a:moveTo>
                  <a:pt x="1901961" y="1128526"/>
                </a:moveTo>
                <a:lnTo>
                  <a:pt x="62575" y="1128526"/>
                </a:lnTo>
                <a:lnTo>
                  <a:pt x="0" y="290"/>
                </a:lnTo>
                <a:lnTo>
                  <a:pt x="8289" y="0"/>
                </a:lnTo>
                <a:lnTo>
                  <a:pt x="1901961" y="1128526"/>
                </a:lnTo>
                <a:close/>
              </a:path>
            </a:pathLst>
          </a:custGeom>
          <a:solidFill>
            <a:srgbClr val="b24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任意多边形 53"/>
          <p:cNvSpPr/>
          <p:nvPr/>
        </p:nvSpPr>
        <p:spPr>
          <a:xfrm flipV="1">
            <a:off x="4878360" y="3866400"/>
            <a:ext cx="1428840" cy="112068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任意多边形 55"/>
          <p:cNvSpPr/>
          <p:nvPr/>
        </p:nvSpPr>
        <p:spPr>
          <a:xfrm flipV="1" rot="13105800">
            <a:off x="2507400" y="4535640"/>
            <a:ext cx="3000600" cy="879840"/>
          </a:xfrm>
          <a:custGeom>
            <a:avLst/>
            <a:gdLst/>
            <a:ahLst/>
            <a:rect l="l" t="t" r="r" b="b"/>
            <a:pathLst>
              <a:path w="3567861" h="1045825">
                <a:moveTo>
                  <a:pt x="0" y="1045825"/>
                </a:moveTo>
                <a:lnTo>
                  <a:pt x="829510" y="0"/>
                </a:lnTo>
                <a:lnTo>
                  <a:pt x="3567861" y="116658"/>
                </a:lnTo>
                <a:cubicBezTo>
                  <a:pt x="2354936" y="465266"/>
                  <a:pt x="1212925" y="697217"/>
                  <a:pt x="0" y="1045825"/>
                </a:cubicBezTo>
                <a:close/>
              </a:path>
            </a:pathLst>
          </a:custGeom>
          <a:solidFill>
            <a:srgbClr val="594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任意多边形 56"/>
          <p:cNvSpPr/>
          <p:nvPr/>
        </p:nvSpPr>
        <p:spPr>
          <a:xfrm flipV="1">
            <a:off x="4878360" y="5114880"/>
            <a:ext cx="1428840" cy="111600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任意多边形 58"/>
          <p:cNvSpPr/>
          <p:nvPr/>
        </p:nvSpPr>
        <p:spPr>
          <a:xfrm rot="8494200">
            <a:off x="2507400" y="2196360"/>
            <a:ext cx="3000600" cy="879480"/>
          </a:xfrm>
          <a:custGeom>
            <a:avLst/>
            <a:gdLst/>
            <a:ahLst/>
            <a:rect l="l" t="t" r="r" b="b"/>
            <a:pathLst>
              <a:path w="3567861" h="1045825">
                <a:moveTo>
                  <a:pt x="0" y="1045825"/>
                </a:moveTo>
                <a:lnTo>
                  <a:pt x="829510" y="0"/>
                </a:lnTo>
                <a:lnTo>
                  <a:pt x="3567861" y="116658"/>
                </a:lnTo>
                <a:cubicBezTo>
                  <a:pt x="2354936" y="465266"/>
                  <a:pt x="1212925" y="697217"/>
                  <a:pt x="0" y="1045825"/>
                </a:cubicBezTo>
                <a:close/>
              </a:path>
            </a:pathLst>
          </a:custGeom>
          <a:solidFill>
            <a:srgbClr val="f58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任意多边形 59"/>
          <p:cNvSpPr/>
          <p:nvPr/>
        </p:nvSpPr>
        <p:spPr>
          <a:xfrm>
            <a:off x="4896000" y="1374840"/>
            <a:ext cx="1428480" cy="111744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27"/>
          <p:cNvGrpSpPr/>
          <p:nvPr/>
        </p:nvGrpSpPr>
        <p:grpSpPr>
          <a:xfrm>
            <a:off x="1716120" y="3241800"/>
            <a:ext cx="1368360" cy="1374480"/>
            <a:chOff x="1716120" y="3241800"/>
            <a:chExt cx="1368360" cy="1374480"/>
          </a:xfrm>
        </p:grpSpPr>
        <p:grpSp>
          <p:nvGrpSpPr>
            <p:cNvPr id="1086" name="组合 25"/>
            <p:cNvGrpSpPr/>
            <p:nvPr/>
          </p:nvGrpSpPr>
          <p:grpSpPr>
            <a:xfrm>
              <a:off x="1716120" y="3241800"/>
              <a:ext cx="1368360" cy="1374480"/>
              <a:chOff x="1716120" y="3241800"/>
              <a:chExt cx="1368360" cy="1374480"/>
            </a:xfrm>
          </p:grpSpPr>
          <p:sp>
            <p:nvSpPr>
              <p:cNvPr id="1087" name="矩形 11"/>
              <p:cNvSpPr/>
              <p:nvPr/>
            </p:nvSpPr>
            <p:spPr>
              <a:xfrm>
                <a:off x="1716120" y="3494520"/>
                <a:ext cx="791640" cy="62388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矩形 12"/>
              <p:cNvSpPr/>
              <p:nvPr/>
            </p:nvSpPr>
            <p:spPr>
              <a:xfrm>
                <a:off x="1716120" y="3241800"/>
                <a:ext cx="556920" cy="25272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矩形 13"/>
              <p:cNvSpPr/>
              <p:nvPr/>
            </p:nvSpPr>
            <p:spPr>
              <a:xfrm>
                <a:off x="2541240" y="3528360"/>
                <a:ext cx="293760" cy="56484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任意多边形 18"/>
              <p:cNvSpPr/>
              <p:nvPr/>
            </p:nvSpPr>
            <p:spPr>
              <a:xfrm>
                <a:off x="2866680" y="3384360"/>
                <a:ext cx="217800" cy="836280"/>
              </a:xfrm>
              <a:custGeom>
                <a:avLst/>
                <a:gdLst/>
                <a:ahLst/>
                <a:rect l="l" t="t" r="r" b="b"/>
                <a:pathLst>
                  <a:path w="215619" h="839485">
                    <a:moveTo>
                      <a:pt x="215619" y="0"/>
                    </a:moveTo>
                    <a:lnTo>
                      <a:pt x="215619" y="839485"/>
                    </a:lnTo>
                    <a:lnTo>
                      <a:pt x="0" y="691923"/>
                    </a:lnTo>
                    <a:lnTo>
                      <a:pt x="0" y="147562"/>
                    </a:lnTo>
                    <a:lnTo>
                      <a:pt x="215619" y="0"/>
                    </a:lnTo>
                    <a:close/>
                  </a:path>
                </a:pathLst>
              </a:cu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任意多边形 21"/>
              <p:cNvSpPr/>
              <p:nvPr/>
            </p:nvSpPr>
            <p:spPr>
              <a:xfrm>
                <a:off x="1808280" y="4059720"/>
                <a:ext cx="429480" cy="556560"/>
              </a:xfrm>
              <a:custGeom>
                <a:avLst/>
                <a:gdLst/>
                <a:ahLst/>
                <a:rect l="l" t="t" r="r" b="b"/>
                <a:pathLst>
                  <a:path w="431799" h="558801">
                    <a:moveTo>
                      <a:pt x="62411" y="80767"/>
                    </a:moveTo>
                    <a:lnTo>
                      <a:pt x="62411" y="478032"/>
                    </a:lnTo>
                    <a:lnTo>
                      <a:pt x="369387" y="478032"/>
                    </a:lnTo>
                    <a:lnTo>
                      <a:pt x="369387" y="80767"/>
                    </a:lnTo>
                    <a:lnTo>
                      <a:pt x="62411" y="80767"/>
                    </a:lnTo>
                    <a:close/>
                    <a:moveTo>
                      <a:pt x="0" y="0"/>
                    </a:moveTo>
                    <a:lnTo>
                      <a:pt x="431799" y="0"/>
                    </a:lnTo>
                    <a:lnTo>
                      <a:pt x="431799" y="558801"/>
                    </a:lnTo>
                    <a:lnTo>
                      <a:pt x="0" y="5588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椭圆 22"/>
              <p:cNvSpPr/>
              <p:nvPr/>
            </p:nvSpPr>
            <p:spPr>
              <a:xfrm>
                <a:off x="2184120" y="4241880"/>
                <a:ext cx="374040" cy="374400"/>
              </a:xfrm>
              <a:prstGeom prst="ellipse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23"/>
              <p:cNvSpPr/>
              <p:nvPr/>
            </p:nvSpPr>
            <p:spPr>
              <a:xfrm>
                <a:off x="2190240" y="4051440"/>
                <a:ext cx="166680" cy="56484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椭圆 26"/>
            <p:cNvSpPr/>
            <p:nvPr/>
          </p:nvSpPr>
          <p:spPr>
            <a:xfrm>
              <a:off x="2248920" y="4309560"/>
              <a:ext cx="250560" cy="2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文本框 68"/>
          <p:cNvSpPr/>
          <p:nvPr/>
        </p:nvSpPr>
        <p:spPr>
          <a:xfrm>
            <a:off x="7590600" y="143496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b193"/>
                </a:solidFill>
                <a:latin typeface="微软雅黑"/>
                <a:ea typeface="微软雅黑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用户的正面口碑就要专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69"/>
          <p:cNvSpPr/>
          <p:nvPr/>
        </p:nvSpPr>
        <p:spPr>
          <a:xfrm>
            <a:off x="7292160" y="2631960"/>
            <a:ext cx="15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挖痛点快速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70"/>
          <p:cNvSpPr/>
          <p:nvPr/>
        </p:nvSpPr>
        <p:spPr>
          <a:xfrm>
            <a:off x="7187400" y="3828960"/>
            <a:ext cx="1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c84"/>
                </a:solidFill>
                <a:latin typeface="微软雅黑"/>
                <a:ea typeface="微软雅黑"/>
              </a:rPr>
              <a:t>口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快速主动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71"/>
          <p:cNvSpPr/>
          <p:nvPr/>
        </p:nvSpPr>
        <p:spPr>
          <a:xfrm>
            <a:off x="7447320" y="5040360"/>
            <a:ext cx="28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超预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尖叫点，包装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性能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感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10"/>
          <p:cNvSpPr/>
          <p:nvPr/>
        </p:nvSpPr>
        <p:spPr>
          <a:xfrm>
            <a:off x="5275440" y="1366920"/>
            <a:ext cx="75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7"/>
          <p:cNvSpPr/>
          <p:nvPr/>
        </p:nvSpPr>
        <p:spPr>
          <a:xfrm>
            <a:off x="5232240" y="2692440"/>
            <a:ext cx="74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8"/>
          <p:cNvSpPr/>
          <p:nvPr/>
        </p:nvSpPr>
        <p:spPr>
          <a:xfrm>
            <a:off x="5230800" y="39225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39"/>
          <p:cNvSpPr/>
          <p:nvPr/>
        </p:nvSpPr>
        <p:spPr>
          <a:xfrm>
            <a:off x="5238000" y="52102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 2"/>
          <p:cNvGrpSpPr/>
          <p:nvPr/>
        </p:nvGrpSpPr>
        <p:grpSpPr>
          <a:xfrm>
            <a:off x="9229320" y="584280"/>
            <a:ext cx="1941840" cy="3154320"/>
            <a:chOff x="9229320" y="584280"/>
            <a:chExt cx="1941840" cy="3154320"/>
          </a:xfrm>
        </p:grpSpPr>
        <p:pic>
          <p:nvPicPr>
            <p:cNvPr id="1111" name="矩形 1" descr=""/>
            <p:cNvPicPr/>
            <p:nvPr/>
          </p:nvPicPr>
          <p:blipFill>
            <a:blip r:embed="rId1"/>
            <a:stretch/>
          </p:blipFill>
          <p:spPr>
            <a:xfrm>
              <a:off x="9229320" y="584280"/>
              <a:ext cx="194184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文本框 12"/>
            <p:cNvSpPr/>
            <p:nvPr/>
          </p:nvSpPr>
          <p:spPr>
            <a:xfrm>
              <a:off x="9324000" y="18021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霸权思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文本框 8"/>
          <p:cNvSpPr/>
          <p:nvPr/>
        </p:nvSpPr>
        <p:spPr>
          <a:xfrm>
            <a:off x="4542480" y="26082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6c84"/>
                </a:solidFill>
                <a:latin typeface="微软雅黑"/>
                <a:ea typeface="微软雅黑"/>
              </a:rPr>
              <a:t>上帝思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六边形 10"/>
          <p:cNvSpPr/>
          <p:nvPr/>
        </p:nvSpPr>
        <p:spPr>
          <a:xfrm rot="5400000">
            <a:off x="4069800" y="3197160"/>
            <a:ext cx="1467000" cy="1266840"/>
          </a:xfrm>
          <a:prstGeom prst="hexagon">
            <a:avLst>
              <a:gd name="adj" fmla="val 24950"/>
              <a:gd name="vf" fmla="val 11547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六边形 11"/>
          <p:cNvSpPr/>
          <p:nvPr/>
        </p:nvSpPr>
        <p:spPr>
          <a:xfrm rot="5400000">
            <a:off x="4700160" y="4389120"/>
            <a:ext cx="1466640" cy="126396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六边形 12"/>
          <p:cNvSpPr/>
          <p:nvPr/>
        </p:nvSpPr>
        <p:spPr>
          <a:xfrm rot="5400000">
            <a:off x="5993640" y="4372920"/>
            <a:ext cx="1466640" cy="1265040"/>
          </a:xfrm>
          <a:prstGeom prst="hexagon">
            <a:avLst>
              <a:gd name="adj" fmla="val 24980"/>
              <a:gd name="vf" fmla="val 11547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六边形 13"/>
          <p:cNvSpPr/>
          <p:nvPr/>
        </p:nvSpPr>
        <p:spPr>
          <a:xfrm rot="5400000">
            <a:off x="6640920" y="3197880"/>
            <a:ext cx="1467000" cy="1265400"/>
          </a:xfrm>
          <a:prstGeom prst="hexagon">
            <a:avLst>
              <a:gd name="adj" fmla="val 24979"/>
              <a:gd name="vf" fmla="val 115470"/>
            </a:avLst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六边形 14"/>
          <p:cNvSpPr/>
          <p:nvPr/>
        </p:nvSpPr>
        <p:spPr>
          <a:xfrm rot="5400000">
            <a:off x="6017760" y="2004840"/>
            <a:ext cx="1468440" cy="126540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六边形 15"/>
          <p:cNvSpPr/>
          <p:nvPr/>
        </p:nvSpPr>
        <p:spPr>
          <a:xfrm rot="5400000">
            <a:off x="4711320" y="2012760"/>
            <a:ext cx="1466640" cy="1266840"/>
          </a:xfrm>
          <a:prstGeom prst="hexagon">
            <a:avLst>
              <a:gd name="adj" fmla="val 24944"/>
              <a:gd name="vf" fmla="val 115470"/>
            </a:avLst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六边形 16"/>
          <p:cNvSpPr/>
          <p:nvPr/>
        </p:nvSpPr>
        <p:spPr>
          <a:xfrm rot="5400000">
            <a:off x="5405040" y="3240000"/>
            <a:ext cx="1379520" cy="1189080"/>
          </a:xfrm>
          <a:prstGeom prst="hexagon">
            <a:avLst>
              <a:gd name="adj" fmla="val 24991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17"/>
          <p:cNvSpPr/>
          <p:nvPr/>
        </p:nvSpPr>
        <p:spPr>
          <a:xfrm>
            <a:off x="2792880" y="19051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顺应潮流的勇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18"/>
          <p:cNvSpPr/>
          <p:nvPr/>
        </p:nvSpPr>
        <p:spPr>
          <a:xfrm>
            <a:off x="2529000" y="3322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7280"/>
                </a:solidFill>
                <a:latin typeface="微软雅黑"/>
                <a:ea typeface="微软雅黑"/>
              </a:rPr>
              <a:t>开放的协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9"/>
          <p:cNvSpPr/>
          <p:nvPr/>
        </p:nvSpPr>
        <p:spPr>
          <a:xfrm>
            <a:off x="3214800" y="4560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b193"/>
                </a:solidFill>
                <a:latin typeface="微软雅黑"/>
                <a:ea typeface="微软雅黑"/>
              </a:rPr>
              <a:t>数据为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20"/>
          <p:cNvSpPr/>
          <p:nvPr/>
        </p:nvSpPr>
        <p:spPr>
          <a:xfrm>
            <a:off x="800424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c5b7b"/>
                </a:solidFill>
                <a:latin typeface="微软雅黑"/>
                <a:ea typeface="微软雅黑"/>
              </a:rPr>
              <a:t>连接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1"/>
          <p:cNvSpPr/>
          <p:nvPr/>
        </p:nvSpPr>
        <p:spPr>
          <a:xfrm>
            <a:off x="8362800" y="3322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互联网</a:t>
            </a:r>
            <a:r>
              <a:rPr b="1" lang="en-US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22"/>
          <p:cNvSpPr/>
          <p:nvPr/>
        </p:nvSpPr>
        <p:spPr>
          <a:xfrm>
            <a:off x="7977600" y="456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7280"/>
                </a:solidFill>
                <a:latin typeface="微软雅黑"/>
                <a:ea typeface="微软雅黑"/>
              </a:rPr>
              <a:t>消费者参与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图片 23" descr=""/>
          <p:cNvPicPr/>
          <p:nvPr/>
        </p:nvPicPr>
        <p:blipFill>
          <a:blip r:embed="rId2"/>
          <a:stretch/>
        </p:blipFill>
        <p:spPr>
          <a:xfrm>
            <a:off x="5072040" y="4816440"/>
            <a:ext cx="630360" cy="41436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24" descr=""/>
          <p:cNvPicPr/>
          <p:nvPr/>
        </p:nvPicPr>
        <p:blipFill>
          <a:blip r:embed="rId3"/>
          <a:stretch/>
        </p:blipFill>
        <p:spPr>
          <a:xfrm>
            <a:off x="6472080" y="2327400"/>
            <a:ext cx="570240" cy="53964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25" descr=""/>
          <p:cNvPicPr/>
          <p:nvPr/>
        </p:nvPicPr>
        <p:blipFill>
          <a:blip r:embed="rId4"/>
          <a:stretch/>
        </p:blipFill>
        <p:spPr>
          <a:xfrm>
            <a:off x="5064120" y="2290680"/>
            <a:ext cx="739800" cy="741600"/>
          </a:xfrm>
          <a:prstGeom prst="rect">
            <a:avLst/>
          </a:prstGeom>
          <a:ln w="0">
            <a:noFill/>
          </a:ln>
        </p:spPr>
      </p:pic>
      <p:pic>
        <p:nvPicPr>
          <p:cNvPr id="1135" name="图片 26" descr=""/>
          <p:cNvPicPr/>
          <p:nvPr/>
        </p:nvPicPr>
        <p:blipFill>
          <a:blip r:embed="rId5"/>
          <a:stretch/>
        </p:blipFill>
        <p:spPr>
          <a:xfrm>
            <a:off x="6977160" y="3497400"/>
            <a:ext cx="763560" cy="55224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27" descr=""/>
          <p:cNvPicPr/>
          <p:nvPr/>
        </p:nvPicPr>
        <p:blipFill>
          <a:blip r:embed="rId6"/>
          <a:stretch/>
        </p:blipFill>
        <p:spPr>
          <a:xfrm>
            <a:off x="4491000" y="3492360"/>
            <a:ext cx="662040" cy="64800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28" descr=""/>
          <p:cNvPicPr/>
          <p:nvPr/>
        </p:nvPicPr>
        <p:blipFill>
          <a:blip r:embed="rId7"/>
          <a:stretch/>
        </p:blipFill>
        <p:spPr>
          <a:xfrm>
            <a:off x="6437160" y="4600440"/>
            <a:ext cx="584280" cy="730440"/>
          </a:xfrm>
          <a:prstGeom prst="rect">
            <a:avLst/>
          </a:prstGeom>
          <a:ln w="0">
            <a:noFill/>
          </a:ln>
        </p:spPr>
      </p:pic>
      <p:sp>
        <p:nvSpPr>
          <p:cNvPr id="1138" name="矩形 29"/>
          <p:cNvSpPr/>
          <p:nvPr/>
        </p:nvSpPr>
        <p:spPr>
          <a:xfrm>
            <a:off x="5775840" y="3357720"/>
            <a:ext cx="7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七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路标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20"/>
          <p:cNvSpPr/>
          <p:nvPr/>
        </p:nvSpPr>
        <p:spPr>
          <a:xfrm>
            <a:off x="5791680" y="137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图片 2" descr="探百村-logo-标志图形-组合1"/>
          <p:cNvPicPr/>
          <p:nvPr/>
        </p:nvPicPr>
        <p:blipFill>
          <a:blip r:embed="rId8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10"/>
          <p:cNvSpPr/>
          <p:nvPr/>
        </p:nvSpPr>
        <p:spPr>
          <a:xfrm>
            <a:off x="654120" y="3110040"/>
            <a:ext cx="106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的本质不是山寨、不是抄袭、不是小创信，而是以用户未中心的价值链创新。是以用户为中心，从用户的应用痛点出发，它的目的是打造爆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11"/>
          <p:cNvSpPr/>
          <p:nvPr/>
        </p:nvSpPr>
        <p:spPr>
          <a:xfrm>
            <a:off x="2933640" y="2179800"/>
            <a:ext cx="59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是方法，爆品是最终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32"/>
          <p:cNvSpPr/>
          <p:nvPr/>
        </p:nvSpPr>
        <p:spPr>
          <a:xfrm>
            <a:off x="5019480" y="49784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 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2"/>
          <p:cNvSpPr/>
          <p:nvPr/>
        </p:nvSpPr>
        <p:spPr>
          <a:xfrm>
            <a:off x="3596400" y="593712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http://www.tanbaic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图片 1" descr=""/>
          <p:cNvPicPr/>
          <p:nvPr/>
        </p:nvPicPr>
        <p:blipFill>
          <a:blip r:embed="rId2"/>
          <a:stretch/>
        </p:blipFill>
        <p:spPr>
          <a:xfrm>
            <a:off x="4495680" y="1292400"/>
            <a:ext cx="3200400" cy="3219120"/>
          </a:xfrm>
          <a:prstGeom prst="rect">
            <a:avLst/>
          </a:prstGeom>
          <a:ln w="0">
            <a:noFill/>
          </a:ln>
        </p:spPr>
      </p:pic>
      <p:pic>
        <p:nvPicPr>
          <p:cNvPr id="1153" name="图片 2" descr="探百村-logo-标志图形"/>
          <p:cNvPicPr/>
          <p:nvPr/>
        </p:nvPicPr>
        <p:blipFill>
          <a:blip r:embed="rId3"/>
          <a:stretch/>
        </p:blipFill>
        <p:spPr>
          <a:xfrm>
            <a:off x="596880" y="295200"/>
            <a:ext cx="19083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" descr=""/>
          <p:cNvPicPr/>
          <p:nvPr/>
        </p:nvPicPr>
        <p:blipFill>
          <a:blip r:embed="rId1"/>
          <a:stretch/>
        </p:blipFill>
        <p:spPr>
          <a:xfrm>
            <a:off x="884160" y="1214280"/>
            <a:ext cx="10423440" cy="44294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1" descr=""/>
          <p:cNvPicPr/>
          <p:nvPr/>
        </p:nvPicPr>
        <p:blipFill>
          <a:blip r:embed="rId1"/>
          <a:stretch/>
        </p:blipFill>
        <p:spPr>
          <a:xfrm>
            <a:off x="307800" y="196920"/>
            <a:ext cx="5788080" cy="44290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" descr=""/>
          <p:cNvPicPr/>
          <p:nvPr/>
        </p:nvPicPr>
        <p:blipFill>
          <a:blip r:embed="rId2"/>
          <a:stretch/>
        </p:blipFill>
        <p:spPr>
          <a:xfrm>
            <a:off x="5062680" y="3703680"/>
            <a:ext cx="6948360" cy="462600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" descr="探百村-logo-标志图形"/>
          <p:cNvPicPr/>
          <p:nvPr/>
        </p:nvPicPr>
        <p:blipFill>
          <a:blip r:embed="rId3"/>
          <a:stretch/>
        </p:blipFill>
        <p:spPr>
          <a:xfrm>
            <a:off x="9658440" y="352440"/>
            <a:ext cx="1908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1" descr=""/>
          <p:cNvPicPr/>
          <p:nvPr/>
        </p:nvPicPr>
        <p:blipFill>
          <a:blip r:embed="rId1"/>
          <a:srcRect l="0" t="3568" r="0" b="0"/>
          <a:stretch/>
        </p:blipFill>
        <p:spPr>
          <a:xfrm>
            <a:off x="1130400" y="287280"/>
            <a:ext cx="9931320" cy="62834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9828360" y="171360"/>
            <a:ext cx="1906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" descr=""/>
          <p:cNvPicPr/>
          <p:nvPr/>
        </p:nvPicPr>
        <p:blipFill>
          <a:blip r:embed="rId1"/>
          <a:srcRect l="2259" t="8634" r="0" b="18074"/>
          <a:stretch/>
        </p:blipFill>
        <p:spPr>
          <a:xfrm>
            <a:off x="573120" y="836640"/>
            <a:ext cx="11296440" cy="55800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9794880" y="237960"/>
            <a:ext cx="1906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2"/>
          <p:cNvSpPr/>
          <p:nvPr/>
        </p:nvSpPr>
        <p:spPr>
          <a:xfrm>
            <a:off x="7500240" y="156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包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3"/>
          <p:cNvSpPr/>
          <p:nvPr/>
        </p:nvSpPr>
        <p:spPr>
          <a:xfrm>
            <a:off x="6982920" y="391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4"/>
          <p:cNvSpPr/>
          <p:nvPr/>
        </p:nvSpPr>
        <p:spPr>
          <a:xfrm>
            <a:off x="6693840" y="267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包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5"/>
          <p:cNvSpPr/>
          <p:nvPr/>
        </p:nvSpPr>
        <p:spPr>
          <a:xfrm>
            <a:off x="4277880" y="561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"/>
          <p:cNvSpPr/>
          <p:nvPr/>
        </p:nvSpPr>
        <p:spPr>
          <a:xfrm>
            <a:off x="4423680" y="24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7"/>
          <p:cNvSpPr/>
          <p:nvPr/>
        </p:nvSpPr>
        <p:spPr>
          <a:xfrm>
            <a:off x="9056160" y="221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"/>
          <p:cNvSpPr/>
          <p:nvPr/>
        </p:nvSpPr>
        <p:spPr>
          <a:xfrm>
            <a:off x="7709760" y="534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9"/>
          <p:cNvSpPr/>
          <p:nvPr/>
        </p:nvSpPr>
        <p:spPr>
          <a:xfrm>
            <a:off x="2932200" y="444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0"/>
          <p:cNvSpPr/>
          <p:nvPr/>
        </p:nvSpPr>
        <p:spPr>
          <a:xfrm>
            <a:off x="4639680" y="3854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直线箭头连接符 14"/>
          <p:cNvCxnSpPr/>
          <p:nvPr/>
        </p:nvCxnSpPr>
        <p:spPr>
          <a:xfrm>
            <a:off x="2082960" y="3409560"/>
            <a:ext cx="8146080" cy="108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18" name="直线箭头连接符 16"/>
          <p:cNvCxnSpPr/>
          <p:nvPr/>
        </p:nvCxnSpPr>
        <p:spPr>
          <a:xfrm flipV="1">
            <a:off x="6095520" y="1301040"/>
            <a:ext cx="1080" cy="4926600"/>
          </a:xfrm>
          <a:prstGeom prst="straightConnector1">
            <a:avLst/>
          </a:prstGeom>
          <a:ln w="47520">
            <a:solidFill>
              <a:srgbClr val="c00000"/>
            </a:solidFill>
            <a:round/>
            <a:tailEnd len="med" type="triangle" w="med"/>
          </a:ln>
        </p:spPr>
      </p:cxnSp>
      <p:sp>
        <p:nvSpPr>
          <p:cNvPr id="619" name="文本框 17"/>
          <p:cNvSpPr/>
          <p:nvPr/>
        </p:nvSpPr>
        <p:spPr>
          <a:xfrm>
            <a:off x="2864880" y="1468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18"/>
          <p:cNvSpPr/>
          <p:nvPr/>
        </p:nvSpPr>
        <p:spPr>
          <a:xfrm>
            <a:off x="1836720" y="1346040"/>
            <a:ext cx="8926560" cy="49388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爆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1" descr="探百村-logo-标志图形"/>
          <p:cNvPicPr/>
          <p:nvPr/>
        </p:nvPicPr>
        <p:blipFill>
          <a:blip r:embed="rId1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4:10:00Z</dcterms:created>
  <dc:creator>USER</dc:creator>
  <dc:description/>
  <dc:language>en-US</dc:language>
  <cp:lastModifiedBy>涪陵电大</cp:lastModifiedBy>
  <dcterms:modified xsi:type="dcterms:W3CDTF">2020-05-27T05:58:25Z</dcterms:modified>
  <cp:revision>1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